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584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5840" y="922788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2E018BD-E127-47AF-A736-05C267280D6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Ver Power Point projasc2 – análise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70261B9-6266-464E-9283-12FD47DC215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Factores críticos de sucesso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: são actividades ou variáveis de gestão que têm de ser muito bem executadas para garantir bom desempenho da empresa no negócio. Derivam da combinação d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ctores chave de compra: Elementos a que os clientes atribuem mais va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actores de competição: Elementos que mais diferenciam os melhores concorrentes em dispu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A471849-2831-4A48-96E2-DB6F8A2B258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issão consiste numa declaração escrita que traduz os ideais e as orientações globais d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053B16C-3B5D-496E-954A-0DF779C04E6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onto forte (fraco) é um recurso ou actividade da empresa que contribui para satisfazer as necessidades dos clientes melhor (pior) que a concorrê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ABCDAA-E701-4E4F-9AA8-FAED8D0D044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mpetências centrais são os pontos fortes em que a empresa mais se destaca dos seus concorr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vem preencher 3 requisitos básic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riação de um valor significativo para os cli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ificuldade de imitação pelos concorr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cesso a novos merc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C6E4263-E9E2-4102-A6D2-021A7D9A13F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00" spc="-1" strike="noStrike">
                <a:solidFill>
                  <a:srgbClr val="000000"/>
                </a:solidFill>
                <a:latin typeface="Arial"/>
              </a:rPr>
              <a:t>Adequação estratégica: procurar alinhar características do negócio com capacidades da empresa, desenvolvendo competências centrais que correspondem aos factores críticos de sucesso do negócio. A empresa deve primeiro valorizar as competências centrais actuais e reforçar a prazo as competências ainda mal dominadas. O intento estratégico reflecte a perspectiva dinâmica da sua adequação estratégic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B191DB7-BF36-4104-A22F-B8F2E9E3F4B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Fontes de mercado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- consiste em decidir “com que produtos vamos entrar no mercado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ncorrência directa - produtos da mesma categoria vendidos pelos concorr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Concorrência alargada (ou difusa) - Outras categorias de prod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7FF6DAF-1A42-4AD5-8C7E-0B7EA093B01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Eixos de posicionamento e diferenciação </a:t>
            </a: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– podem ser o produto, o serviço, o preço, o pessoal e a imagem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: características físicas, performance, durabilidade, fiabilidade, estilo, design, etc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: entrega, instalação, formação, consultoria, repar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: Preços mais baixos ou mais altos que os dos concorrente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: funcionários mais competentes e melhor formados que os dos concorrent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: características puramente simbólicas conferindo uma personalidade própria (original) ao produto (produtos de image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000000"/>
                </a:solidFill>
                <a:latin typeface="Arial"/>
              </a:rPr>
              <a:t>Factores de diferenciaçã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oduto – Funcionalidade, Performance, Durabilidade, Estilo, Design, Momentos de consumo, Modos de consumo, Target específic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Serviço - Prazos de entrega, Instalação, Formação, Aconselh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reço - Preço de venda (muito alto ou baixo), Condições de pagament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Pessoal – Atendimento, Competência, Cortesia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Arial"/>
              </a:rPr>
              <a:t>Imagem - Solução/benefício do produto, Projecção social, Projecção individua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arcador de Posição do Número do Diapositivo 3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F1F0889-3B4B-49BB-81E1-4D291A7ED4F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483032C-CB06-41D1-9035-CA4B0825A67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9228240"/>
            <a:ext cx="297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A29FEFA-DDB7-4F26-80B1-0A44BA7F58A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6CA-3F97-42FC-AC94-99C435B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6B8-3E64-4E09-9A6B-D10046D0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DBF-CE74-418C-ADE3-CDAE017D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A96-626D-4A1F-8AA4-174AA8C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58CC-1C08-4A63-ADFD-D934A367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E82-EA9F-40E8-973C-3AC71FB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6F15-5231-4C4C-ACA0-8442770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39E-897A-45F9-8D93-2627262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A705-83C4-43F8-862B-744CE45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7751-6340-4469-A412-4FA394A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6B2-1190-4CCB-993B-E598283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A9A-3FB9-41EE-A448-357485E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56E1-11E0-4244-8159-AEAC9FE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4C9-DEBF-4E69-B75A-1C1568B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9160-C6F9-4BD8-A280-28D4D40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3EC6-588A-4A14-BE83-407E14AF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C00-9EF2-4146-A215-15E7B0C7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66FF-A08D-4467-8346-ADE4610F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735E-2F1E-4180-A0AA-A4EB621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62E2-9265-497A-A5FB-86AB8E9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4396-E33F-48A2-B1E9-64E82349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3CBA-629F-4CC7-8C55-61C4468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C50-B36A-4221-AA3C-F934078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FA24-9309-42A7-9DAD-5E0B136F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6E07-8751-4F54-B674-FD0186E5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324E-60B1-4214-9F26-60FDE23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B96E-96CB-4335-A8D2-04707A0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6FBD-528D-4C61-A7D9-BB07F8A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EA55-829C-48CC-8808-C8C4DA01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DF2F4-EF74-4A6A-8122-084EB72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B45-9109-4251-9630-D1D70D5B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404-168D-4809-9E07-666EE5F1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985-E8A5-4E73-849D-C32F9F8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556-1435-4E03-AAE5-BE28BD7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AB9-A811-4DAB-92CF-062D643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AA6-8961-4726-8FCC-D62BDE4C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CC4-C5A9-4965-AA0F-E99085E190C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6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7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7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48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0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A9F-134C-4FEE-902E-211906F669C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9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28600" y="6373800"/>
            <a:ext cx="2286000" cy="484200"/>
            <a:chOff x="228600" y="6373800"/>
            <a:chExt cx="2286000" cy="484200"/>
          </a:xfrm>
        </p:grpSpPr>
        <p:pic>
          <p:nvPicPr>
            <p:cNvPr id="94" name="Picture 31" descr=""/>
            <p:cNvPicPr/>
            <p:nvPr/>
          </p:nvPicPr>
          <p:blipFill>
            <a:blip r:embed="rId2">
              <a:lum contrast="24000"/>
            </a:blip>
            <a:srcRect l="2191" t="10643" r="6439" b="8238"/>
            <a:stretch/>
          </p:blipFill>
          <p:spPr>
            <a:xfrm>
              <a:off x="803520" y="6373800"/>
              <a:ext cx="99036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2"/>
            <p:cNvSpPr/>
            <p:nvPr/>
          </p:nvSpPr>
          <p:spPr>
            <a:xfrm>
              <a:off x="1702080" y="6373800"/>
              <a:ext cx="8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WASH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96" name="Text Box 33"/>
            <p:cNvSpPr/>
            <p:nvPr/>
          </p:nvSpPr>
          <p:spPr>
            <a:xfrm>
              <a:off x="228600" y="6373800"/>
              <a:ext cx="6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eeece1"/>
                  </a:solidFill>
                  <a:latin typeface="Monotype Corsiva"/>
                </a:rPr>
                <a:t>CAR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FA3-2724-4AFB-BD27-3DCF7F86EB7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0E6-49FA-4232-BD6F-E66FE9A3C7E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357720" y="1357200"/>
            <a:ext cx="5252400" cy="2288520"/>
            <a:chOff x="3357720" y="1357200"/>
            <a:chExt cx="5252400" cy="2288520"/>
          </a:xfrm>
        </p:grpSpPr>
        <p:sp>
          <p:nvSpPr>
            <p:cNvPr id="147" name="Text Box 4"/>
            <p:cNvSpPr/>
            <p:nvPr/>
          </p:nvSpPr>
          <p:spPr>
            <a:xfrm>
              <a:off x="5513400" y="1357200"/>
              <a:ext cx="30967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3357720" y="1357200"/>
              <a:ext cx="2590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7200" spc="-1" strike="noStrike">
                  <a:solidFill>
                    <a:srgbClr val="0000ff"/>
                  </a:solidFill>
                  <a:latin typeface="Monotype Corsiva"/>
                </a:rPr>
                <a:t>XPTO</a:t>
              </a:r>
              <a:endParaRPr b="1" lang="en-US" sz="7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149" name="Rectangle 6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0880" y="3352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ff"/>
                </a:solidFill>
                <a:latin typeface="Monotype Corsiva"/>
              </a:rPr>
              <a:t>Onde o Serviço de (…) é Barato e de muita Qualidade</a:t>
            </a:r>
            <a:endParaRPr b="1" lang="en-US" sz="3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8D0-7F3A-41E5-9E5C-D213D828176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3276720"/>
            <a:ext cx="44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Onde vai realizar o serviço actualmente (concorrentes)?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2857680" y="500040"/>
          <a:ext cx="403848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500040"/>
                    <a:ext cx="40384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214200" y="3643200"/>
          <a:ext cx="6270840" cy="292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643200"/>
                    <a:ext cx="62708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14"/>
          <p:cNvSpPr/>
          <p:nvPr/>
        </p:nvSpPr>
        <p:spPr>
          <a:xfrm>
            <a:off x="6629400" y="167652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Nº de serviços de (…) realizado em Chaves em média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0" y="571680"/>
            <a:ext cx="293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Estudo Sobre o Potencial de Mercado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FF9-08D9-4704-9A0E-803F36DA9AB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96" name="Object 1028"/>
          <p:cNvGraphicFramePr/>
          <p:nvPr/>
        </p:nvGraphicFramePr>
        <p:xfrm>
          <a:off x="457200" y="1463760"/>
          <a:ext cx="815328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3760"/>
                    <a:ext cx="81532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1029"/>
          <p:cNvSpPr/>
          <p:nvPr/>
        </p:nvSpPr>
        <p:spPr>
          <a:xfrm>
            <a:off x="609480" y="1143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m que regularidade utiliza os diversos serviços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oncorrência da XP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Concorrência Direc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erviço realizado em ca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ente 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Concorrência Indirec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136-DF5B-469E-B678-65804F4CBE9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520" y="1503360"/>
          <a:ext cx="8070840" cy="4816440"/>
        </p:xfrm>
        <a:graphic>
          <a:graphicData uri="http://schemas.openxmlformats.org/drawingml/2006/table">
            <a:tbl>
              <a:tblPr/>
              <a:tblGrid>
                <a:gridCol w="1455480"/>
                <a:gridCol w="1598760"/>
                <a:gridCol w="2617920"/>
                <a:gridCol w="239868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orr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or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os Fra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1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realizado em cas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qu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são social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jidad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a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únic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n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AFF-73DE-482B-B49A-28E7A138A79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295280"/>
          <a:ext cx="7925040" cy="4299120"/>
        </p:xfrm>
        <a:graphic>
          <a:graphicData uri="http://schemas.openxmlformats.org/drawingml/2006/table">
            <a:tbl>
              <a:tblPr/>
              <a:tblGrid>
                <a:gridCol w="1154160"/>
                <a:gridCol w="1440000"/>
                <a:gridCol w="2975040"/>
                <a:gridCol w="2355840"/>
              </a:tblGrid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nida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ão Y de descont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n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ona Industri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a lavagem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odidade do 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a do Eng.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ção das instala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370-7F42-462D-93EF-38A05415B59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Listagem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295280"/>
          <a:ext cx="7925040" cy="4849920"/>
        </p:xfrm>
        <a:graphic>
          <a:graphicData uri="http://schemas.openxmlformats.org/drawingml/2006/table">
            <a:tbl>
              <a:tblPr/>
              <a:tblGrid>
                <a:gridCol w="1428840"/>
                <a:gridCol w="1381320"/>
                <a:gridCol w="2881080"/>
                <a:gridCol w="2233800"/>
              </a:tblGrid>
              <a:tr h="170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nta do …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ão Z para promo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da prestação do servi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gar de …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duração da prestação do servi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CEF-5D61-4FA9-B3A8-1020C146E22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Quota de Mercado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442800" y="1309680"/>
          <a:ext cx="8104320" cy="50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309680"/>
                    <a:ext cx="810432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8F8-E745-49F8-83D3-F4EC87FDDD1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/Fraquezas dos Concorrent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143000"/>
          <a:ext cx="8458200" cy="4842000"/>
        </p:xfrm>
        <a:graphic>
          <a:graphicData uri="http://schemas.openxmlformats.org/drawingml/2006/table">
            <a:tbl>
              <a:tblPr/>
              <a:tblGrid>
                <a:gridCol w="2038320"/>
                <a:gridCol w="898560"/>
                <a:gridCol w="691920"/>
                <a:gridCol w="619200"/>
                <a:gridCol w="539640"/>
                <a:gridCol w="925560"/>
                <a:gridCol w="1005120"/>
                <a:gridCol w="846000"/>
                <a:gridCol w="89388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 Cas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orie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vulgaçã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rár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ament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amentos (self-service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s Personalizad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s Complementar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DB7-BCCC-4C22-9E6C-99B2EFB3D11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218" name="Group 606"/>
          <p:cNvGrpSpPr/>
          <p:nvPr/>
        </p:nvGrpSpPr>
        <p:grpSpPr>
          <a:xfrm>
            <a:off x="1981080" y="5943600"/>
            <a:ext cx="5790960" cy="368280"/>
            <a:chOff x="1981080" y="5943600"/>
            <a:chExt cx="5790960" cy="368280"/>
          </a:xfrm>
        </p:grpSpPr>
        <p:sp>
          <p:nvSpPr>
            <p:cNvPr id="219" name="Rectangle 596"/>
            <p:cNvSpPr/>
            <p:nvPr/>
          </p:nvSpPr>
          <p:spPr>
            <a:xfrm>
              <a:off x="4114440" y="6019920"/>
              <a:ext cx="22860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0" name="Rectangle 597"/>
            <p:cNvSpPr/>
            <p:nvPr/>
          </p:nvSpPr>
          <p:spPr>
            <a:xfrm>
              <a:off x="1981080" y="601992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1" name="Rectangle 598"/>
            <p:cNvSpPr/>
            <p:nvPr/>
          </p:nvSpPr>
          <p:spPr>
            <a:xfrm>
              <a:off x="3047760" y="60199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2" name="Text Box 599"/>
            <p:cNvSpPr/>
            <p:nvPr/>
          </p:nvSpPr>
          <p:spPr>
            <a:xfrm>
              <a:off x="213336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Fort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3" name="Text Box 602"/>
            <p:cNvSpPr/>
            <p:nvPr/>
          </p:nvSpPr>
          <p:spPr>
            <a:xfrm>
              <a:off x="3276360" y="59436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Médi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4" name="Text Box 603"/>
            <p:cNvSpPr/>
            <p:nvPr/>
          </p:nvSpPr>
          <p:spPr>
            <a:xfrm>
              <a:off x="4343040" y="59436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- Frac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5" name="Text Box 604"/>
            <p:cNvSpPr/>
            <p:nvPr/>
          </p:nvSpPr>
          <p:spPr>
            <a:xfrm>
              <a:off x="5181480" y="5943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Possui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26" name="Text Box 605"/>
            <p:cNvSpPr/>
            <p:nvPr/>
          </p:nvSpPr>
          <p:spPr>
            <a:xfrm>
              <a:off x="6324480" y="59436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Não Possui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acções Competitivas Espe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19A5-5C19-41EB-AD0A-26E9B225803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295280"/>
          <a:ext cx="8229600" cy="4923000"/>
        </p:xfrm>
        <a:graphic>
          <a:graphicData uri="http://schemas.openxmlformats.org/drawingml/2006/table">
            <a:tbl>
              <a:tblPr/>
              <a:tblGrid>
                <a:gridCol w="1752480"/>
                <a:gridCol w="2590920"/>
                <a:gridCol w="3886200"/>
              </a:tblGrid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is Concorr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osta Esperad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1" lang="en-US" sz="5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 de pre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das campanhas publicitári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1" lang="en-US" sz="5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 de pre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rgamento do horário de funcionament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</a:t>
                      </a:r>
                      <a:endParaRPr b="1" lang="en-US" sz="4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Análise do Ambiente Externo e Int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700E-DB7E-492C-8CAF-E890DCDA676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XPTO pretende ser uma empresa de prestação de serviços de (…), essencialmente com uma vertente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self-service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mas que também disponibiliza aos seus clientes serviços personalizados. Em ambos os casos, o principal objectivo é oferecer uma boa relação qualidade-preç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ara melhor aceitação destes, a XPTO</a:t>
            </a:r>
            <a:r>
              <a:rPr b="1" lang="pt-PT" sz="1800" spc="-1" strike="noStrike">
                <a:solidFill>
                  <a:srgbClr val="eeece1"/>
                </a:solidFill>
                <a:latin typeface="Monotype Corsiv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á apostada em investir na concretização de alguns pontos considerados determinantes para o seu bom desempenho, dos quais se destacam: a sua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calização,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junto ao Leclerc, em Chaves;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 preço dos serviços,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mais baixos que os da actual concorrência,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vas modalidades de prestação dos serviços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e uma maior </a:t>
            </a: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apidez do serviç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XPTO com o seu serviço inovador na zona de Chaves, pretende abranger maioritariamente as pessoas que executam a tarefa de (…) em casa, oferecendo serviços que a substituem. Pretende também concorrer com os actuais prestadores de serviços nessa área. O serviço de (…) self-service pretende abranger todo o mercado local, enquanto que o serviço personalizado tem como principal objectivo satisfazer as necessidades das pessoas com uma melhor situação financeira e ainda o mercado das empresas da regiã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C2E2-6A54-4F19-8761-A5C00937052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Sector e do Meio Envolvente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Ex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17400" y="1500120"/>
          <a:ext cx="7955280" cy="5197680"/>
        </p:xfrm>
        <a:graphic>
          <a:graphicData uri="http://schemas.openxmlformats.org/drawingml/2006/table">
            <a:tbl>
              <a:tblPr/>
              <a:tblGrid>
                <a:gridCol w="4586400"/>
                <a:gridCol w="3368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ortunidade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eaça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72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xistência do serviço de (…) personalizado em Chaves</a:t>
                      </a: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zido número de concorrentes para o serviço de (…) self-servic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s bastante elevados para o serviço de (…) personalizad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vado número de potenciai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scimento do número de pessoas a viver em apartamento, portanto, sem condições para realizar, em casa, esse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stência dum único concorrente com o serviço de (…) self-service e com disponibilidade 24 h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ível aparecimento de seguidor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ível resistência do mercado a um serviço nov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inuição da procura nas épocas de Outono e Inverno, devido às condições climatéricas adversa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ábitos comodistas dos cliente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CAC8-3F22-4FCE-9057-9711E6A90E2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tractividade do Sec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14240" y="928800"/>
          <a:ext cx="7543800" cy="5084640"/>
        </p:xfrm>
        <a:graphic>
          <a:graphicData uri="http://schemas.openxmlformats.org/drawingml/2006/table">
            <a:tbl>
              <a:tblPr/>
              <a:tblGrid>
                <a:gridCol w="2381400"/>
                <a:gridCol w="1606680"/>
                <a:gridCol w="1514160"/>
                <a:gridCol w="2041560"/>
              </a:tblGrid>
              <a:tr h="73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erviço de  (…)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erviço de (…)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tencial de novas entrad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são de produtos substitu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der negocial dos 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der negocial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ivalidade entre concorrentes actu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édia/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Conclusão Fin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 Média/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 Média/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Atractividade</a:t>
                      </a:r>
                      <a:r>
                        <a:rPr b="1" lang="pt-PT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Arial"/>
                        </a:rPr>
                        <a:t> 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37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CBB-70AB-4D8A-AFD6-D7E3BA14EF9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actores Críticos de Suces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636560"/>
          <a:ext cx="8076960" cy="45356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1920960"/>
                <a:gridCol w="1965240"/>
                <a:gridCol w="2209680"/>
              </a:tblGrid>
              <a:tr h="1217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ra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Valor par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t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Variáveis 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3000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ação aos horários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ário Alarg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i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de esper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ço disponíve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parqueamen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8D7F-C688-4325-91DB-4939201888F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1" name="Text Box 337"/>
          <p:cNvSpPr/>
          <p:nvPr/>
        </p:nvSpPr>
        <p:spPr>
          <a:xfrm rot="16200000">
            <a:off x="361800" y="4184280"/>
            <a:ext cx="33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99"/>
                </a:solidFill>
                <a:latin typeface="Times New Roman"/>
              </a:rPr>
              <a:t>Sub-serviço 1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2" name="Text Box 338"/>
          <p:cNvSpPr/>
          <p:nvPr/>
        </p:nvSpPr>
        <p:spPr>
          <a:xfrm rot="16200000">
            <a:off x="-616320" y="4182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Self-service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actores Críticos de Suce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2057400"/>
          <a:ext cx="8001000" cy="3789360"/>
        </p:xfrm>
        <a:graphic>
          <a:graphicData uri="http://schemas.openxmlformats.org/drawingml/2006/table">
            <a:tbl>
              <a:tblPr/>
              <a:tblGrid>
                <a:gridCol w="912600"/>
                <a:gridCol w="1216080"/>
                <a:gridCol w="1736640"/>
                <a:gridCol w="1947960"/>
                <a:gridCol w="2187720"/>
              </a:tblGrid>
              <a:tr h="1295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 compra (Valor para 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 competição (Variáveis de 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01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ação aos horários dos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ário Alarg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i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edade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erenciação do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a de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1422-8484-4FD0-BDBB-1B6F5EE7CD9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6" name="Text Box 393"/>
          <p:cNvSpPr/>
          <p:nvPr/>
        </p:nvSpPr>
        <p:spPr>
          <a:xfrm rot="16200000">
            <a:off x="831600" y="4349520"/>
            <a:ext cx="23623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99"/>
                </a:solidFill>
                <a:latin typeface="Times New Roman"/>
              </a:rPr>
              <a:t>Sub-serviço 2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47" name="Text Box 396"/>
          <p:cNvSpPr/>
          <p:nvPr/>
        </p:nvSpPr>
        <p:spPr>
          <a:xfrm rot="16200000">
            <a:off x="-257400" y="43725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Self-service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Críticos de Sucess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447920"/>
          <a:ext cx="8070840" cy="4800600"/>
        </p:xfrm>
        <a:graphic>
          <a:graphicData uri="http://schemas.openxmlformats.org/drawingml/2006/table">
            <a:tbl>
              <a:tblPr/>
              <a:tblGrid>
                <a:gridCol w="693720"/>
                <a:gridCol w="612720"/>
                <a:gridCol w="2197080"/>
                <a:gridCol w="2131920"/>
                <a:gridCol w="2435400"/>
              </a:tblGrid>
              <a:tr h="1304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-chave de compra (Valor para client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de competição (Variáveis de competiçã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tores Crític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795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 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edade 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erenciação 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a de serviç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o poup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dade do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ções e ofert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ções e ofert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anhas Promocio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880-0752-43EC-829C-63230DC4610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51" name="Text Box 187"/>
          <p:cNvSpPr/>
          <p:nvPr/>
        </p:nvSpPr>
        <p:spPr>
          <a:xfrm rot="16200000">
            <a:off x="-698760" y="41598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ff"/>
                </a:solidFill>
                <a:latin typeface="Times New Roman"/>
              </a:rPr>
              <a:t>Personalizado</a:t>
            </a:r>
            <a:endParaRPr b="1" lang="en-US" sz="2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do Negóci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Objectivos, Factores de Inovação, Competências, Intento Estratégic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C6D-8D27-42C3-A2AF-BD5566A990E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 Nossa Miss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752480"/>
            <a:ext cx="8283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missão da XPTO é disponibilizar serviços de (…) que se diferenciam da concorrência essencialmente pelo baixo custo, mas também pela diversidade da oferta de uma gama de serviços de qualidade. Queremos conquistar e fidelizar os nossos clientes, fornecendo-lhes relações preço/qualidade mais favoráveis que os nossos concorrentes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DEC-08F3-4090-8296-796D4AE9E1C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Objectiv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FE5-A4D4-4F34-AA19-36CCCDF39B5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1143000"/>
          <a:ext cx="8458200" cy="5218200"/>
        </p:xfrm>
        <a:graphic>
          <a:graphicData uri="http://schemas.openxmlformats.org/drawingml/2006/table">
            <a:tbl>
              <a:tblPr/>
              <a:tblGrid>
                <a:gridCol w="1355760"/>
                <a:gridCol w="710244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iv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3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inanceir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quistar 30% da quota de mercado dos concorrentes, no 1.º ano de actividade, e   50%  no 2º ano de actividad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trar num mercado novo - pessoas que efectuam actualmente o serviço de (…) nas suas próprias casas - que representará 60% - 70% dos nossos clientes totai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rtizar o investimento realizado num período de 6 an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Não Financeir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cançar uma longevidade de 10 a 20 anos para a empresa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ulgar e reforçar uma imagem de uma empresa que tem como objectivo principal satisfazer as necessidades do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r um espaço atractivo e agradável para os nossos client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delizar todos os nossos clientes através de um serviço de qualidade, a um baixo cust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rças e Fraquezas da Nossa Empresa</a:t>
            </a:r>
            <a:r>
              <a:rPr b="1" i="1" lang="pt-PT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100"/>
            </a:br>
            <a:r>
              <a:rPr b="1" i="1" lang="pt-PT" sz="2200" spc="-1" strike="noStrike">
                <a:solidFill>
                  <a:srgbClr val="000000"/>
                </a:solidFill>
                <a:latin typeface="Times New Roman"/>
              </a:rPr>
              <a:t>Ambiente Inte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14240" y="1571760"/>
          <a:ext cx="8077320" cy="4495680"/>
        </p:xfrm>
        <a:graphic>
          <a:graphicData uri="http://schemas.openxmlformats.org/drawingml/2006/table">
            <a:tbl>
              <a:tblPr/>
              <a:tblGrid>
                <a:gridCol w="4110120"/>
                <a:gridCol w="3967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ç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quez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0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vada gama de serviços reunidos num só espaç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e serviços únic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idênticos à concorrência, a preços mais baix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zido tempo de espera, dada o bom dimensionamento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 das instalações em local estratégic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A82-FA7F-44DD-8271-15483723AA1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ompetências Centra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Qualidade e rapidez do serviç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Localização da XP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Baixo custo para o cli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ficuldade de Imit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pesar de ser previsível o aparecimento de seguidores, a nossa localização, pioneirismo e o marketing agressivo terão um forte impacto no mercado.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0D2-C6A9-4AC7-A237-8F65303E72F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Sumário Execu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D9E-2319-4B12-A5EA-A7F052965A9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228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criação da XPTO está dependente de um financiamento de aproximadamente €, dos quais % são obtidos através de um empréstimo bancário a 10 anos e os restantes % são obtidos através de um subsídio a fundo perdido do Programa ILE. É importante ainda referir, que apesar do elevado investimento, o projecto apresenta um prazo de recuperação de anos e indicadores de rendibilidade (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TIR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VAL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 elevados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marL="3430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e projecto será concretizado por dois jovens empreendedores muito ambiciosos e com vontade de vingar no mundo empresarial nacional, e que acreditam profundamente no sucesso e viabilidade deste projecto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de Inovação do Serviç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escrição do Serviç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rês zonas de prestação de serviço em vez das tradicionais uma ou du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erviço self-service e serviço personaliz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Benefícios para os cl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eços mais baixos que os concorrent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talações adequad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apidez e Qualidade do serviç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Grande superfície nas imediaçõ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Grande variedade de serviços, sendo alguns deles inovado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B2DF-BBCB-4F45-8361-529D15F352E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actores de Inovação do Serviç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ferenciação face aos concorren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Local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Horário de funcion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stalações mais adequadas para a utilização dos serviç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eços mais acessíve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aior gama de serviç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489A-1310-4013-A033-4FBD9BFE622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tento Estratégico do Negó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1142640"/>
            <a:ext cx="86756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intento estratégico da XPTO é demarcar-se da concorrência pela diferenciação e por praticar preços abaixo da média do sector,  com custos operacionais igualmente abaixo da mé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ferenciação face aos concorrente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e desempenho do serviço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já que, permite tempos de realização mais rápi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ços complementares prestados pela empresa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- self-service, personalizad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calização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, já que, permite atingir um maior número de potenciais clientes (clientes da grande superfíc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CFE-F60B-4DC6-8D52-B3D49D1064C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nto Estratégico – Serviço de (…) </a:t>
            </a:r>
            <a:r>
              <a:rPr b="1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lf-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8B0A-4A41-4167-BD4E-0E2055FE804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0880" y="1447920"/>
          <a:ext cx="8153640" cy="4335480"/>
        </p:xfrm>
        <a:graphic>
          <a:graphicData uri="http://schemas.openxmlformats.org/drawingml/2006/table">
            <a:tbl>
              <a:tblPr/>
              <a:tblGrid>
                <a:gridCol w="2089440"/>
                <a:gridCol w="993600"/>
                <a:gridCol w="1392120"/>
                <a:gridCol w="1490760"/>
                <a:gridCol w="1093680"/>
                <a:gridCol w="1094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 Centr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us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lexibil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levada Gama de Serviç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aixo Cus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278" name="Group 1265"/>
          <p:cNvGrpSpPr/>
          <p:nvPr/>
        </p:nvGrpSpPr>
        <p:grpSpPr>
          <a:xfrm>
            <a:off x="457200" y="5943600"/>
            <a:ext cx="8153280" cy="307080"/>
            <a:chOff x="457200" y="5943600"/>
            <a:chExt cx="8153280" cy="307080"/>
          </a:xfrm>
        </p:grpSpPr>
        <p:sp>
          <p:nvSpPr>
            <p:cNvPr id="279" name="Rectangle 1262"/>
            <p:cNvSpPr/>
            <p:nvPr/>
          </p:nvSpPr>
          <p:spPr>
            <a:xfrm>
              <a:off x="457200" y="5943600"/>
              <a:ext cx="533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0" name="Text Box 1263"/>
            <p:cNvSpPr/>
            <p:nvPr/>
          </p:nvSpPr>
          <p:spPr>
            <a:xfrm>
              <a:off x="838080" y="59436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Área de adequação estratégic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1" name="Text Box 1264"/>
            <p:cNvSpPr/>
            <p:nvPr/>
          </p:nvSpPr>
          <p:spPr>
            <a:xfrm>
              <a:off x="5181480" y="5943600"/>
              <a:ext cx="342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Pontuação: Insuficiente (1) a Excelente (5)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nto Estratégico – </a:t>
            </a:r>
            <a:r>
              <a:rPr b="1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rviço de (…) Personaliz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DAB5-9A59-429B-A505-96E308457E9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379520"/>
          <a:ext cx="8229600" cy="4487760"/>
        </p:xfrm>
        <a:graphic>
          <a:graphicData uri="http://schemas.openxmlformats.org/drawingml/2006/table">
            <a:tbl>
              <a:tblPr/>
              <a:tblGrid>
                <a:gridCol w="2108160"/>
                <a:gridCol w="1003320"/>
                <a:gridCol w="1405080"/>
                <a:gridCol w="1351080"/>
                <a:gridCol w="1258920"/>
                <a:gridCol w="110304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Críticos de Sucess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 Centr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us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ampanhas Promociona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ama de Serviç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apidez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aixo Cust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285" name="Group 1080"/>
          <p:cNvGrpSpPr/>
          <p:nvPr/>
        </p:nvGrpSpPr>
        <p:grpSpPr>
          <a:xfrm>
            <a:off x="457200" y="5943600"/>
            <a:ext cx="8153280" cy="307080"/>
            <a:chOff x="457200" y="5943600"/>
            <a:chExt cx="8153280" cy="307080"/>
          </a:xfrm>
        </p:grpSpPr>
        <p:sp>
          <p:nvSpPr>
            <p:cNvPr id="286" name="Rectangle 1081"/>
            <p:cNvSpPr/>
            <p:nvPr/>
          </p:nvSpPr>
          <p:spPr>
            <a:xfrm>
              <a:off x="457200" y="5943600"/>
              <a:ext cx="533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7" name="Text Box 1082"/>
            <p:cNvSpPr/>
            <p:nvPr/>
          </p:nvSpPr>
          <p:spPr>
            <a:xfrm>
              <a:off x="838080" y="59436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Área de adequação estratégic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288" name="Text Box 1083"/>
            <p:cNvSpPr/>
            <p:nvPr/>
          </p:nvSpPr>
          <p:spPr>
            <a:xfrm>
              <a:off x="5181480" y="5943600"/>
              <a:ext cx="342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Pontuação: Insuficiente (1) a Excelente (5)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AF4-CC2B-44DA-92CC-2F5EAA642B1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07180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lano de Marketing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ritérios de Segment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Demográf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sculino e Feminin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is de 18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eográf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mpresas da região de Chav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de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Sociais e Económ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odo o tipo de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iversos estratos sociai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 de temp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reocupações sociais/ambienta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A481-AB4A-4543-9A16-F8A30575F58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ercado alvo prioritário do serviço de self-serv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studa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udantes do ensino secundário e superi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dade entre 18 – 26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tudantes universitários desloc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aixo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rupos informa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 de temp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partir dos 18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odo o tipo de rendiment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233-A60D-4D37-9AAF-771CF80F2CB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ercados Al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Mercado alvo prioritário do serviço personalizad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Grupos informa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pouca disponibilidad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partir dos 25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sidentes em Chaves e arredo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essoas com rendimentos médios/elev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mbos os sex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Entidades privad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mpresas de Chaves e arredo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40C-8D0D-48B2-96A7-143ADD1BA53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06440" y="5054760"/>
            <a:ext cx="317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ontes de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14300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erviços concorrentes da mesma catego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pção estratég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ência directa: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nquistar o maior número de clientes dos nossos concorr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- Particular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- Empres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utras categorias de serviç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pção estratég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corrência alargad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nquista de um novo mercado: pessoas que realizam o serviço em ca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rescimento da procura primár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umento da procura devido à existência de serviços complement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975A-0889-4839-9138-7513B330834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aracterização da XP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480" y="1600200"/>
            <a:ext cx="79250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 implantação e desenvolvimento da XPTO tem como fin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ntar aproveitar uma oportunidade de mercado para a prestação dum conjunto de  serviços em duas modalidades principais: serviço de (…) self-service e serviço de (…) personalizad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ferecer esses serviços a um custo baixo e com boa qu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ntar abranger a maior quota de mercado possíve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5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atisfazer o cliente, oferecendo uma gama diferenciada e inovadora de serviços, com rapidez e numa boa localizaç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AC5-9F17-4D60-95F5-00135D40FB8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0880" y="1143000"/>
          <a:ext cx="8291520" cy="5356080"/>
        </p:xfrm>
        <a:graphic>
          <a:graphicData uri="http://schemas.openxmlformats.org/drawingml/2006/table">
            <a:tbl>
              <a:tblPr/>
              <a:tblGrid>
                <a:gridCol w="1873440"/>
                <a:gridCol w="1655640"/>
                <a:gridCol w="4762440"/>
              </a:tblGrid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863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z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z do serviço self-servic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alargado para o serviço personalizado (9:00 h – 23:00 h)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nibilidade 24 horas para o self-servic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õ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-estruturas adequadas para o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-estruturas cobert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do na cidade e perto de uma grande superfíci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que de estacionamento ampl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acessibilidad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 de Prestação do Servi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e grande eficiência no uso de energia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personalizado único na região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o serviç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AE1F-A0ED-4DAD-A266-01DA6EA576D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ixos de Posicio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600200"/>
          <a:ext cx="8363160" cy="4191120"/>
        </p:xfrm>
        <a:graphic>
          <a:graphicData uri="http://schemas.openxmlformats.org/drawingml/2006/table">
            <a:tbl>
              <a:tblPr/>
              <a:tblGrid>
                <a:gridCol w="1656000"/>
                <a:gridCol w="1512720"/>
                <a:gridCol w="5194440"/>
              </a:tblGrid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ixos de Posicionament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ctores de Diferenc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6</a:t>
                      </a:r>
                      <a:endParaRPr b="1" lang="en-US" sz="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magem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ractividad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ço atractivo e muito funcional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ocupaçõ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lóg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 de tratamento dos resídu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reç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ço de Venda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o custo dos diversos serviç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8BAA-91CC-44E8-8C3E-3A4506A289B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mportância dos Factores de Diferenci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Marcador de Posição do Número do Diapositivo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A55C-B63C-415D-A7AC-18D15B7D86B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2" name="Object 1030"/>
          <p:cNvGraphicFramePr/>
          <p:nvPr/>
        </p:nvGraphicFramePr>
        <p:xfrm>
          <a:off x="285840" y="928800"/>
          <a:ext cx="8254800" cy="50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928800"/>
                    <a:ext cx="82548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Text Box 1031"/>
          <p:cNvSpPr/>
          <p:nvPr/>
        </p:nvSpPr>
        <p:spPr>
          <a:xfrm>
            <a:off x="152280" y="6019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xemplo: Chaves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rketing-M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25AE-350D-40A4-A892-4B6CE4BC65E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80880" y="1549440"/>
          <a:ext cx="8534520" cy="3987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838440"/>
                <a:gridCol w="914400"/>
                <a:gridCol w="914400"/>
                <a:gridCol w="914400"/>
                <a:gridCol w="990360"/>
                <a:gridCol w="914400"/>
                <a:gridCol w="990720"/>
              </a:tblGrid>
              <a:tr h="472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rcados-Segmentos de Cliente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cula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re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ços a Presta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ixa-Mé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-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as Empres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63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18" name="Group 362"/>
          <p:cNvGrpSpPr/>
          <p:nvPr/>
        </p:nvGrpSpPr>
        <p:grpSpPr>
          <a:xfrm>
            <a:off x="457200" y="5791320"/>
            <a:ext cx="7620120" cy="381600"/>
            <a:chOff x="457200" y="5791320"/>
            <a:chExt cx="7620120" cy="381600"/>
          </a:xfrm>
        </p:grpSpPr>
        <p:sp>
          <p:nvSpPr>
            <p:cNvPr id="319" name="Rectangle 343"/>
            <p:cNvSpPr/>
            <p:nvPr/>
          </p:nvSpPr>
          <p:spPr>
            <a:xfrm>
              <a:off x="457200" y="58672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0" name="Text Box 347"/>
            <p:cNvSpPr/>
            <p:nvPr/>
          </p:nvSpPr>
          <p:spPr>
            <a:xfrm>
              <a:off x="685800" y="57913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Sem potencial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1" name="Rectangle 345"/>
            <p:cNvSpPr/>
            <p:nvPr/>
          </p:nvSpPr>
          <p:spPr>
            <a:xfrm>
              <a:off x="3276720" y="591192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2" name="Text Box 348"/>
            <p:cNvSpPr/>
            <p:nvPr/>
          </p:nvSpPr>
          <p:spPr>
            <a:xfrm>
              <a:off x="3505320" y="58356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Com potencial médio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3" name="Rectangle 346"/>
            <p:cNvSpPr/>
            <p:nvPr/>
          </p:nvSpPr>
          <p:spPr>
            <a:xfrm>
              <a:off x="6324480" y="5867280"/>
              <a:ext cx="22860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24" name="Text Box 349"/>
            <p:cNvSpPr/>
            <p:nvPr/>
          </p:nvSpPr>
          <p:spPr>
            <a:xfrm>
              <a:off x="6553080" y="57913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- Com potencial</a:t>
              </a: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e Promoções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stratégia de Preç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eço do nosso serviço, irá ser fixado em função de uma estratégica que consist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nálise dos preços da concorrên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aticar preços mais baixos que a concorrên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racterísticas distintivas face à concorrênci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talaçõ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ovos serviç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crescentar valor ao serviço atravé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qualidade de serviç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atisfação das necessidades dos client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campanha de marketing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6AD-5166-4EC7-AC5E-FA02772F7FA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os Concor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C632-CAC9-4A3F-94D3-F228D9715FB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143000"/>
          <a:ext cx="8077320" cy="5067360"/>
        </p:xfrm>
        <a:graphic>
          <a:graphicData uri="http://schemas.openxmlformats.org/drawingml/2006/table">
            <a:tbl>
              <a:tblPr/>
              <a:tblGrid>
                <a:gridCol w="1828800"/>
                <a:gridCol w="3048120"/>
                <a:gridCol w="3200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2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B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os Concor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C757-5E92-41D6-BA2F-764C55759FC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80880" y="1066680"/>
          <a:ext cx="8305920" cy="4627800"/>
        </p:xfrm>
        <a:graphic>
          <a:graphicData uri="http://schemas.openxmlformats.org/drawingml/2006/table">
            <a:tbl>
              <a:tblPr/>
              <a:tblGrid>
                <a:gridCol w="1879560"/>
                <a:gridCol w="3135600"/>
                <a:gridCol w="329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ços de Vendas da XP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0759-B035-442D-BB79-67E4AAD33A0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33520" y="1371600"/>
          <a:ext cx="8153280" cy="4800600"/>
        </p:xfrm>
        <a:graphic>
          <a:graphicData uri="http://schemas.openxmlformats.org/drawingml/2006/table">
            <a:tbl>
              <a:tblPr/>
              <a:tblGrid>
                <a:gridCol w="1523880"/>
                <a:gridCol w="3276720"/>
                <a:gridCol w="33526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2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eeece1"/>
                          </a:solidFill>
                          <a:latin typeface="Arial"/>
                          <a:ea typeface="Arial"/>
                        </a:rPr>
                        <a:t>XPTO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idade do Lecrerc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service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ertura das instalaçõe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que de estaciona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s 1, 2, 3 e 4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rviço Personalizado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rviço</a:t>
                      </a: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self-service: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1 –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serviço 2 –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 u="sng">
                <a:solidFill>
                  <a:srgbClr val="000000"/>
                </a:solidFill>
                <a:uFillTx/>
                <a:latin typeface="Times New Roman"/>
              </a:rPr>
              <a:t>Distribuição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stratégia de distribui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stribuição directa – o serviço é vendido directamente ao consumidor final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azões da escolha da estratégia de distribui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 serviço não permite a existência de canais de distribuiçã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É consumido no momento da comp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7F67-DABD-45F4-97A2-4A7A40C92FD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000000"/>
                </a:solidFill>
                <a:uFillTx/>
                <a:latin typeface="Times New Roman"/>
              </a:rPr>
              <a:t>Instal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 infra-estrutura tem um visual muito atractivo e é sobretudo muito funcion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ermite a reestruturação do espaço e do tipo de serviços prestad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erminado o contrato há a possibilidade de: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moção das instalações sem ter encargos elevad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novação do contrat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quisição da infra-estrutura por outras empresas interessad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55F-506D-44B6-BF9F-A260158D994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142720"/>
            <a:ext cx="8015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nálise da Envolvente/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iagnóstico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Análise de Merc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88F9-96BF-4808-9B49-D3E28B2D504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Força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57120" y="1371240"/>
            <a:ext cx="840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s principais vendedores do serviço são os dois sócios-gerentes e</a:t>
            </a:r>
            <a:r>
              <a:rPr b="0" lang="pt-P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os dois colaboradores, através do contacto directo com os clientes. Eles dev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er um conhecimento profundo do serviço prestad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hecer os objectivos da empre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nhecer os potenciais client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valiar em situações pontuais o nível de satisfação dos clie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D73-E3F7-4E82-918E-3D49EE968B8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F45B-06C4-45FB-A759-C06AC8142D3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48" name="Group 31"/>
          <p:cNvGrpSpPr/>
          <p:nvPr/>
        </p:nvGrpSpPr>
        <p:grpSpPr>
          <a:xfrm>
            <a:off x="457200" y="1828800"/>
            <a:ext cx="8153280" cy="4038480"/>
            <a:chOff x="457200" y="1828800"/>
            <a:chExt cx="8153280" cy="4038480"/>
          </a:xfrm>
        </p:grpSpPr>
        <p:sp>
          <p:nvSpPr>
            <p:cNvPr id="349" name="Rectangle 4"/>
            <p:cNvSpPr/>
            <p:nvPr/>
          </p:nvSpPr>
          <p:spPr>
            <a:xfrm>
              <a:off x="3733920" y="182880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ix de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Comunicaçã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0" name="Rectangle 6"/>
            <p:cNvSpPr/>
            <p:nvPr/>
          </p:nvSpPr>
          <p:spPr>
            <a:xfrm>
              <a:off x="152388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edi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4572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adio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251460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Imprensa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3" name="Line 14"/>
            <p:cNvSpPr/>
            <p:nvPr/>
          </p:nvSpPr>
          <p:spPr>
            <a:xfrm>
              <a:off x="243828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>
              <a:off x="137160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>
              <a:off x="13716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342900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>
              <a:off x="6019920" y="3505320"/>
              <a:ext cx="182880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Outros Canai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>
              <a:off x="49528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Marketing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Directo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7010280" y="5181480"/>
              <a:ext cx="16002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Relaçõe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Públicas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0" name="Line 23"/>
            <p:cNvSpPr/>
            <p:nvPr/>
          </p:nvSpPr>
          <p:spPr>
            <a:xfrm>
              <a:off x="6934320" y="434340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1" name="Line 24"/>
            <p:cNvSpPr/>
            <p:nvPr/>
          </p:nvSpPr>
          <p:spPr>
            <a:xfrm>
              <a:off x="5867280" y="4648320"/>
              <a:ext cx="20574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2" name="Line 25"/>
            <p:cNvSpPr/>
            <p:nvPr/>
          </p:nvSpPr>
          <p:spPr>
            <a:xfrm>
              <a:off x="58672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3" name="Line 26"/>
            <p:cNvSpPr/>
            <p:nvPr/>
          </p:nvSpPr>
          <p:spPr>
            <a:xfrm>
              <a:off x="7924680" y="4648320"/>
              <a:ext cx="0" cy="3808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4" name="Line 27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5" name="Line 28"/>
            <p:cNvSpPr/>
            <p:nvPr/>
          </p:nvSpPr>
          <p:spPr>
            <a:xfrm>
              <a:off x="2514600" y="2971800"/>
              <a:ext cx="449568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6" name="Line 29"/>
            <p:cNvSpPr/>
            <p:nvPr/>
          </p:nvSpPr>
          <p:spPr>
            <a:xfrm>
              <a:off x="251460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67" name="Line 30"/>
            <p:cNvSpPr/>
            <p:nvPr/>
          </p:nvSpPr>
          <p:spPr>
            <a:xfrm>
              <a:off x="7010280" y="2971800"/>
              <a:ext cx="0" cy="380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ix da Comunic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nossa estratégia de comunicação tem como principal objectivo dar a conhecer a XPTO à  população residente em Chaves e  arredores.  Assim, a nossa estratégia de comunicação passará por utilizar os seguintes canai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s </a:t>
            </a: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dia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mprensa – anúncios no jornal a Voz de Trás-os-Montes, durante os primeiros 3 mes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ádio –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spots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ublicitários na rádio Voz do Alto Tâmega, durante os primeiros 3 meses de início de actividad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Outros canais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Marketing Directo – a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través da distribuição de panfletos através dos correios e de forma directa em locais estratégicos, caso do Lecler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Relações Públicas – contactos pessoais com as empresas, no sentido de divulgar os nossos serviç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435-8BAA-4D7A-B8D3-C0A98292F19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 em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C23-1080-4B1A-9076-85DEB8D25DF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04920" y="1154160"/>
          <a:ext cx="8458200" cy="517680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914400"/>
                <a:gridCol w="1066680"/>
                <a:gridCol w="1067040"/>
                <a:gridCol w="990360"/>
                <a:gridCol w="10670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Rádio Voz do Alto Tâmeg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anúncios diários de 30’’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mes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es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 Voz de Trás-os-Monte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¼ de página numa página impar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seman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rafism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ção de logo tip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ração de 1 Viatur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a Banner 3000x800 mm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ões Visi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ões Client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fletos e Composição de Flyer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Line 203"/>
          <p:cNvSpPr/>
          <p:nvPr/>
        </p:nvSpPr>
        <p:spPr>
          <a:xfrm>
            <a:off x="304920" y="1143000"/>
            <a:ext cx="1523880" cy="7621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omoções de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C25E-C374-4EBA-ACCB-48358FAB39A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1523880"/>
          <a:ext cx="8077320" cy="4496040"/>
        </p:xfrm>
        <a:graphic>
          <a:graphicData uri="http://schemas.openxmlformats.org/drawingml/2006/table">
            <a:tbl>
              <a:tblPr/>
              <a:tblGrid>
                <a:gridCol w="1447920"/>
                <a:gridCol w="2971800"/>
                <a:gridCol w="1218960"/>
                <a:gridCol w="1128960"/>
                <a:gridCol w="130968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mo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.U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um serviço ao fim de 15 efectuad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ub-serviço 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ta dum serviço ao fim de 10 efectuados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ub-serviço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onto de 50% no serviço ao fim de 10 efectuad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Vendas</a:t>
            </a:r>
            <a:r>
              <a:rPr b="1" i="1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2A66-252D-4293-8775-089F904EA75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80880" y="1357200"/>
          <a:ext cx="8305920" cy="48164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ço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Mens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Anu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3% da capacidade máxima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evisão de Ve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1D5-BB1F-4AEF-A198-9207D36F603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1360440"/>
          <a:ext cx="8305920" cy="4811760"/>
        </p:xfrm>
        <a:graphic>
          <a:graphicData uri="http://schemas.openxmlformats.org/drawingml/2006/table">
            <a:tbl>
              <a:tblPr/>
              <a:tblGrid>
                <a:gridCol w="1660680"/>
                <a:gridCol w="1463760"/>
                <a:gridCol w="1858680"/>
                <a:gridCol w="1662120"/>
                <a:gridCol w="166068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vis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09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no Cruzeiro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o 2011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1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Self-service 2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61.200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1.280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3.271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8.296 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391-F3E1-4EDA-AB1A-AE9EE426BEB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200016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Recursos Humano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Competências da Equipa de Gest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9440-2DFD-4147-8870-8A970B6A9C4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8760" y="2643120"/>
          <a:ext cx="8216640" cy="1432080"/>
        </p:xfrm>
        <a:graphic>
          <a:graphicData uri="http://schemas.openxmlformats.org/drawingml/2006/table">
            <a:tbl>
              <a:tblPr/>
              <a:tblGrid>
                <a:gridCol w="1828800"/>
                <a:gridCol w="3251160"/>
                <a:gridCol w="313668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m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João  Sa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cio-Gerente e Director Financeir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na Gonçalv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cio-Gerente e Director de Marketing e Operaçõe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042-5565-4376-AA21-17803AF632F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391" name="Group 118"/>
          <p:cNvGrpSpPr/>
          <p:nvPr/>
        </p:nvGrpSpPr>
        <p:grpSpPr>
          <a:xfrm>
            <a:off x="4071960" y="2000160"/>
            <a:ext cx="3962160" cy="2285640"/>
            <a:chOff x="4071960" y="2000160"/>
            <a:chExt cx="3962160" cy="2285640"/>
          </a:xfrm>
        </p:grpSpPr>
        <p:sp>
          <p:nvSpPr>
            <p:cNvPr id="392" name="Rectangle 98"/>
            <p:cNvSpPr/>
            <p:nvPr/>
          </p:nvSpPr>
          <p:spPr>
            <a:xfrm>
              <a:off x="4566960" y="2000160"/>
              <a:ext cx="3042720" cy="8571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000" spc="-1" strike="noStrike">
                  <a:solidFill>
                    <a:srgbClr val="ffffff"/>
                  </a:solidFill>
                  <a:latin typeface="Times New Roman"/>
                </a:rPr>
                <a:t>Sócios-Gerentes</a:t>
              </a:r>
              <a:endParaRPr b="1" lang="en-US" sz="20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de Marketing e Operaçõ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pt-PT" sz="1400" spc="-1" strike="noStrike">
                  <a:solidFill>
                    <a:srgbClr val="ffffff"/>
                  </a:solidFill>
                  <a:latin typeface="Times New Roman"/>
                </a:rPr>
                <a:t>Director Financeir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3" name="Rectangle 99"/>
            <p:cNvSpPr/>
            <p:nvPr/>
          </p:nvSpPr>
          <p:spPr>
            <a:xfrm>
              <a:off x="407196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A 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4" name="Rectangle 100"/>
            <p:cNvSpPr/>
            <p:nvPr/>
          </p:nvSpPr>
          <p:spPr>
            <a:xfrm>
              <a:off x="6336000" y="3643200"/>
              <a:ext cx="1698120" cy="642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Times New Roman"/>
                </a:rPr>
                <a:t>Funcionário B</a:t>
              </a:r>
              <a:endParaRPr b="1" lang="en-US" sz="18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5" name="Line 101"/>
            <p:cNvSpPr/>
            <p:nvPr/>
          </p:nvSpPr>
          <p:spPr>
            <a:xfrm>
              <a:off x="6053040" y="2857320"/>
              <a:ext cx="0" cy="285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6" name="Line 102"/>
            <p:cNvSpPr/>
            <p:nvPr/>
          </p:nvSpPr>
          <p:spPr>
            <a:xfrm>
              <a:off x="4920840" y="3143160"/>
              <a:ext cx="23349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7" name="Line 103"/>
            <p:cNvSpPr/>
            <p:nvPr/>
          </p:nvSpPr>
          <p:spPr>
            <a:xfrm>
              <a:off x="492084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398" name="Line 104"/>
            <p:cNvSpPr/>
            <p:nvPr/>
          </p:nvSpPr>
          <p:spPr>
            <a:xfrm>
              <a:off x="7256160" y="3143160"/>
              <a:ext cx="0" cy="3567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399" name="Text Box 124"/>
          <p:cNvSpPr/>
          <p:nvPr/>
        </p:nvSpPr>
        <p:spPr>
          <a:xfrm>
            <a:off x="500040" y="4071960"/>
            <a:ext cx="328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equipa de recursos humanos da XPTO</a:t>
            </a:r>
            <a:r>
              <a:rPr b="1" i="1" lang="pt-P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é constituída por dois directores e por dois funcionários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Potencial de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5960" y="1219320"/>
          <a:ext cx="7918560" cy="4881600"/>
        </p:xfrm>
        <a:graphic>
          <a:graphicData uri="http://schemas.openxmlformats.org/drawingml/2006/table">
            <a:tbl>
              <a:tblPr/>
              <a:tblGrid>
                <a:gridCol w="2089080"/>
                <a:gridCol w="58294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mento Alvo</a:t>
                      </a:r>
                      <a:endParaRPr b="1" lang="en-US" sz="20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4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erfil d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lient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ular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servic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de ambos os sexos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ade: 18 aos 65 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os níveis de rendimen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os estratos sociai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liz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de ambos os sexos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ade: mais de 25 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íveis de rendimento médio/alt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os sociais médio/elevad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res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marL="17784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 região de Chaves.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0DE-5F6E-445A-9851-BBD3026A440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Responsabilidades e Tarefas dos Colaborad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B67-F437-4898-8641-A2EDA767E20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249200"/>
          <a:ext cx="8229600" cy="504036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2004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f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ênci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7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Financeiro </a:t>
                      </a: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Sócio-Gerent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lise financeira e contabilístic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amento de ordenad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a de consumívei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além disso: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ena a actividade empresarial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ga e distribui taref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ada de decis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hecimentos na área financeir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 de liderança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ão estratégic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de Marketing e de Operações </a:t>
                      </a: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Sócio-Gerent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nha de divulgação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udos de Mercado, Promo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das opera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além disso: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ga e distribui taref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o e manuten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das instalaçõe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ão e classificação dos funcionári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ciatura em …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hecimentos na área de marketing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 de lideranç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dade de comunica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(Full-time)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ação dos horários dos serviço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zação dos serviços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de manutenção do espaç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stência aos clientes do self-service   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colaridade obrigatória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nas relações públicas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3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aparência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Verão (Maio - Setembr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E8D-AF9E-4404-8392-3FA15F3DB6E8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1081080"/>
          <a:ext cx="8229600" cy="48862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6" name="Group 213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grpSp>
          <p:nvGrpSpPr>
            <p:cNvPr id="407" name="Group 212"/>
            <p:cNvGrpSpPr/>
            <p:nvPr/>
          </p:nvGrpSpPr>
          <p:grpSpPr>
            <a:xfrm>
              <a:off x="457200" y="6019920"/>
              <a:ext cx="3048120" cy="228600"/>
              <a:chOff x="457200" y="6019920"/>
              <a:chExt cx="3048120" cy="228600"/>
            </a:xfrm>
          </p:grpSpPr>
          <p:sp>
            <p:nvSpPr>
              <p:cNvPr id="408" name="Rectangle 169"/>
              <p:cNvSpPr/>
              <p:nvPr/>
            </p:nvSpPr>
            <p:spPr>
              <a:xfrm>
                <a:off x="457200" y="6019920"/>
                <a:ext cx="304920" cy="2286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09" name="Rectangle 170"/>
              <p:cNvSpPr/>
              <p:nvPr/>
            </p:nvSpPr>
            <p:spPr>
              <a:xfrm>
                <a:off x="3200400" y="6019920"/>
                <a:ext cx="304920" cy="2286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10" name="Text Box 171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1" name="Text Box 172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Mapa de Trabalho</a:t>
            </a: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pt-PT" sz="2500" spc="-1" strike="noStrike">
                <a:solidFill>
                  <a:srgbClr val="000000"/>
                </a:solidFill>
                <a:latin typeface="Times New Roman"/>
              </a:rPr>
              <a:t>Inverno (Outubro - Abri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2FD-E856-4EE7-9915-7A80E646C93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57200" y="1066680"/>
          <a:ext cx="8229600" cy="4900680"/>
        </p:xfrm>
        <a:graphic>
          <a:graphicData uri="http://schemas.openxmlformats.org/drawingml/2006/table">
            <a:tbl>
              <a:tblPr/>
              <a:tblGrid>
                <a:gridCol w="1006560"/>
                <a:gridCol w="914400"/>
                <a:gridCol w="955440"/>
                <a:gridCol w="874800"/>
                <a:gridCol w="811440"/>
                <a:gridCol w="812520"/>
                <a:gridCol w="814680"/>
                <a:gridCol w="984240"/>
                <a:gridCol w="105552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a de Trabalh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gund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erç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ar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Quin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x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ába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omingo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0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4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5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6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7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8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9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0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1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2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23:00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Group 470"/>
          <p:cNvGrpSpPr/>
          <p:nvPr/>
        </p:nvGrpSpPr>
        <p:grpSpPr>
          <a:xfrm>
            <a:off x="457200" y="6019920"/>
            <a:ext cx="4191120" cy="307080"/>
            <a:chOff x="457200" y="6019920"/>
            <a:chExt cx="4191120" cy="307080"/>
          </a:xfrm>
        </p:grpSpPr>
        <p:sp>
          <p:nvSpPr>
            <p:cNvPr id="416" name="Rectangle 460"/>
            <p:cNvSpPr/>
            <p:nvPr/>
          </p:nvSpPr>
          <p:spPr>
            <a:xfrm>
              <a:off x="457200" y="6019920"/>
              <a:ext cx="304920" cy="228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7" name="Rectangle 461"/>
            <p:cNvSpPr/>
            <p:nvPr/>
          </p:nvSpPr>
          <p:spPr>
            <a:xfrm>
              <a:off x="3200400" y="6019920"/>
              <a:ext cx="304920" cy="2286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8" name="Text Box 462"/>
            <p:cNvSpPr/>
            <p:nvPr/>
          </p:nvSpPr>
          <p:spPr>
            <a:xfrm>
              <a:off x="7621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1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19" name="Text Box 464"/>
            <p:cNvSpPr/>
            <p:nvPr/>
          </p:nvSpPr>
          <p:spPr>
            <a:xfrm>
              <a:off x="3505320" y="6019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00"/>
                  </a:solidFill>
                  <a:latin typeface="Times New Roman"/>
                </a:rPr>
                <a:t>- 2.º Turn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Recrutamento e Selecção de Pes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s cargos de gestão são desempenhados pelos empreendedores (sócios-gerent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João Santos – Director Financeir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na Gonçalves – Director de Marketing e Operaçõ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uncionári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recrutamento será feito através de anúncios nos jornais da região e do centro de empr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selecção irá ser realizada segundo critérios estabelecidos previamente e comprovados mediante uma entrevist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ritérios de Selec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dade superior a 21 an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acilidade de comunicaçã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colaridade obrigatór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oa apresentaçã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7B93-13F0-4003-A6EB-32273BDBD56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Horário de Trabalho e Remuneraçõ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3442-75FF-4A69-9E6A-5D8600505C2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33520" y="1238400"/>
          <a:ext cx="8076960" cy="5040000"/>
        </p:xfrm>
        <a:graphic>
          <a:graphicData uri="http://schemas.openxmlformats.org/drawingml/2006/table">
            <a:tbl>
              <a:tblPr/>
              <a:tblGrid>
                <a:gridCol w="2133360"/>
                <a:gridCol w="2428920"/>
                <a:gridCol w="3514680"/>
              </a:tblGrid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g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ário de Trabalh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uneração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João Sant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Financeir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não estipul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Mê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ição de lucros no final de cada an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na Gonçalv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irector de Marketing e Operaçõ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 não estipulad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Mê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ição de lucros no final de cada ano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 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horas/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horas/sema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ês + € Incentiv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s Prémios: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1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2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uncionário B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horas/d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horas/semanai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ês + € Incentiv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s Prémios: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1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€ por sub-serviço 2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valiação do Desempen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6EAE-FD46-4DB7-B401-FC750633442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533520" y="1295280"/>
          <a:ext cx="8001000" cy="3432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 de Avali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ssifica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dimento ao Públic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mpenho da Fun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est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iciênci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duidade/Pont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esent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ient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29" name="Rectangle 50"/>
          <p:cNvSpPr/>
          <p:nvPr/>
        </p:nvSpPr>
        <p:spPr>
          <a:xfrm>
            <a:off x="0" y="4724280"/>
            <a:ext cx="86104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  Avaliação dos funcionários será feita mensalmente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uma avaliação situada entre os 60 – 80 pontos receberão um incentivo de €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ó terão direito à totalidade do incentivo com uma classificação acima dos 80 pontos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spcBef>
                <a:spcPts val="400"/>
              </a:spcBef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6 avaliações consecutivas acima dos 80 pontos receberá um prémio adicional de  €.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lanos de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uma equipa dinâmica como a da XPTO, a formação ocupa um lugar de destaque, não só 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objectivo de aumentar as capacidades qualitativas dos seus colaboradores e do serviço para 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liente, como também para abrir portas a novos projectos e oportunidades de mercado. Assim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uma primeira fase a formação consistirá em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rector Financei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e contabilidad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scrição na Câmara dos Técnicos Oficiais de Cont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rector de Marketing e Operaçõ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o marketing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ões pública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a área de gestão das operaçõ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uncionári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ões pública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em relação aos procedimentos a seguir nos sub-serviço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ormação no manuseamento dos equipa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99E-94B8-4FA0-9B1E-764556E4554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52CF-1109-44A4-AC03-5BFE67A36B2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1714680"/>
            <a:ext cx="914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endParaRPr b="1" lang="en-US" sz="54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Gestão das Operações</a:t>
            </a:r>
            <a:endParaRPr b="1" lang="en-US" sz="3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Gestão da Cadeia Oper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345-7EA0-4CFF-A570-2AF88C591F3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295280"/>
          <a:ext cx="8229600" cy="4953240"/>
        </p:xfrm>
        <a:graphic>
          <a:graphicData uri="http://schemas.openxmlformats.org/drawingml/2006/table">
            <a:tbl>
              <a:tblPr/>
              <a:tblGrid>
                <a:gridCol w="2230560"/>
                <a:gridCol w="5999040"/>
              </a:tblGrid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dade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8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stratég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ação perto de um Hipermercado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e investimento inicial em publicidade, para dar a conhecer os nossos serviç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dade dos serviços prestado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Táctica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ítica de recursos humanos;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ção e publicidade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e Base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s de Contabilidade e de Marketing; 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ções Públicas.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In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Internalizada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Serviços self-service e personalizad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studos de mercad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mpras de materiai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crutamento/Selecção dos recursos hum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mpanhas publicitárias (parcialmente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Aquisição do equipamento e dos consumívei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ontabilida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2DD-E8B8-4B45-9B66-959B8B8CF1A3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152280" y="4419720"/>
            <a:ext cx="8839440" cy="1904760"/>
            <a:chOff x="152280" y="4419720"/>
            <a:chExt cx="8839440" cy="1904760"/>
          </a:xfrm>
        </p:grpSpPr>
        <p:sp>
          <p:nvSpPr>
            <p:cNvPr id="442" name="AutoShape 5"/>
            <p:cNvSpPr/>
            <p:nvPr/>
          </p:nvSpPr>
          <p:spPr>
            <a:xfrm>
              <a:off x="152280" y="4419720"/>
              <a:ext cx="2210040" cy="1904760"/>
            </a:xfrm>
            <a:custGeom>
              <a:avLst/>
              <a:gdLst>
                <a:gd name="textAreaLeft" fmla="*/ 0 w 2210040"/>
                <a:gd name="textAreaRight" fmla="*/ 2210400 w 22100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669900"/>
                  </a:solidFill>
                  <a:latin typeface="Times New Roman"/>
                </a:rPr>
                <a:t>      </a:t>
              </a: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Pesquisa e 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Desenvolviment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I&amp;D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3" name="AutoShape 6"/>
            <p:cNvSpPr/>
            <p:nvPr/>
          </p:nvSpPr>
          <p:spPr>
            <a:xfrm>
              <a:off x="3500280" y="4419720"/>
              <a:ext cx="2428920" cy="190476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6" y="0"/>
                  </a:lnTo>
                  <a:lnTo>
                    <a:pt x="21600" y="10800"/>
                  </a:lnTo>
                  <a:lnTo>
                    <a:pt x="16856" y="21600"/>
                  </a:lnTo>
                  <a:lnTo>
                    <a:pt x="0" y="21600"/>
                  </a:lnTo>
                  <a:lnTo>
                    <a:pt x="474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ntabilida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Contabilidad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Planos Investiment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i="1" lang="pt-PT" sz="13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4" name="AutoShape 7"/>
            <p:cNvSpPr/>
            <p:nvPr/>
          </p:nvSpPr>
          <p:spPr>
            <a:xfrm>
              <a:off x="5357880" y="4419720"/>
              <a:ext cx="2054160" cy="1904760"/>
            </a:xfrm>
            <a:custGeom>
              <a:avLst/>
              <a:gdLst>
                <a:gd name="textAreaLeft" fmla="*/ 0 w 2054160"/>
                <a:gd name="textAreaRight" fmla="*/ 2054520 w 205416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6" y="0"/>
                  </a:lnTo>
                  <a:lnTo>
                    <a:pt x="21600" y="10800"/>
                  </a:lnTo>
                  <a:lnTo>
                    <a:pt x="15536" y="21600"/>
                  </a:lnTo>
                  <a:lnTo>
                    <a:pt x="0" y="21600"/>
                  </a:lnTo>
                  <a:lnTo>
                    <a:pt x="6064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669900"/>
                  </a:solidFill>
                  <a:latin typeface="Times New Roman"/>
                </a:rPr>
                <a:t>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Estudos de Merc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Campanhas 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ublicitárias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  </a:t>
              </a:r>
              <a:r>
                <a:rPr b="1" i="1" lang="pt-PT" sz="1400" spc="-1" strike="noStrike">
                  <a:solidFill>
                    <a:srgbClr val="669900"/>
                  </a:solidFill>
                  <a:latin typeface="Times New Roman"/>
                </a:rPr>
                <a:t>Director de Marketin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5" name="AutoShape 8"/>
            <p:cNvSpPr/>
            <p:nvPr/>
          </p:nvSpPr>
          <p:spPr>
            <a:xfrm>
              <a:off x="6858000" y="4419720"/>
              <a:ext cx="2133720" cy="19047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99"/>
                  </a:solidFill>
                  <a:latin typeface="Times New Roman"/>
                </a:rPr>
                <a:t>Serviç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 Self-service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Personaliza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- Manutenção d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Times New Roman"/>
                </a:rPr>
                <a:t>espaç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400" spc="-1" strike="noStrike">
                  <a:solidFill>
                    <a:srgbClr val="000099"/>
                  </a:solidFill>
                  <a:latin typeface="Times New Roman"/>
                </a:rPr>
                <a:t>Funcionário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46" name="AutoShape 9"/>
            <p:cNvSpPr/>
            <p:nvPr/>
          </p:nvSpPr>
          <p:spPr>
            <a:xfrm>
              <a:off x="1765440" y="4419720"/>
              <a:ext cx="2235240" cy="1904760"/>
            </a:xfrm>
            <a:custGeom>
              <a:avLst/>
              <a:gdLst>
                <a:gd name="textAreaLeft" fmla="*/ 0 w 2235240"/>
                <a:gd name="textAreaRight" fmla="*/ 2235240 w 22352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24" y="0"/>
                  </a:lnTo>
                  <a:lnTo>
                    <a:pt x="21600" y="10800"/>
                  </a:lnTo>
                  <a:lnTo>
                    <a:pt x="16024" y="21600"/>
                  </a:lnTo>
                  <a:lnTo>
                    <a:pt x="0" y="21600"/>
                  </a:lnTo>
                  <a:lnTo>
                    <a:pt x="5576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0000"/>
                  </a:solidFill>
                  <a:latin typeface="Times New Roman"/>
                </a:rPr>
                <a:t>Compra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Aquisição Equipamento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Times New Roman"/>
                </a:rPr>
                <a:t>Compra Consumíveis</a:t>
              </a: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200" spc="-1" strike="noStrike">
                  <a:solidFill>
                    <a:srgbClr val="ff0000"/>
                  </a:solidFill>
                  <a:latin typeface="Times New Roman"/>
                </a:rPr>
                <a:t>Director Financeiro</a:t>
              </a: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447" name="Text Box 11"/>
          <p:cNvSpPr/>
          <p:nvPr/>
        </p:nvSpPr>
        <p:spPr>
          <a:xfrm>
            <a:off x="152280" y="40384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igura 9 – Integração Vertical da Cadeia Operacional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Análise do Potencial de Mercad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2171880"/>
                <a:gridCol w="6057720"/>
              </a:tblGrid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spectos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Geográfic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entes em Chaves e arredores;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resas da região.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spect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mportamentai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s com pouca disponibilidade de tempo.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Ocasiões de Compra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nte todo o ano;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224"/>
                        </a:spcBef>
                        <a:buClr>
                          <a:srgbClr val="c0504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r procura nos meses de Verão. 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Marcador de Posição do Número do Diapositivo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86D8-EB0F-4C0A-81E2-7E1FB0A56AB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Actividades Externali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201-E5C4-430C-ACBD-F696DA36BD5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50" name="Text Box 346"/>
          <p:cNvSpPr/>
          <p:nvPr/>
        </p:nvSpPr>
        <p:spPr>
          <a:xfrm>
            <a:off x="457200" y="1461960"/>
            <a:ext cx="80773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o vimos, praticamente todas as actividades da XPTO são internalizadas, exceptuando as seguintes: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ções Externalizadas: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eece1"/>
              </a:solidFill>
              <a:latin typeface="Monotype Corsiva"/>
            </a:endParaRPr>
          </a:p>
          <a:p>
            <a:pPr lvl="1" marL="457200" algn="just">
              <a:lnSpc>
                <a:spcPct val="130000"/>
              </a:lnSpc>
              <a:buClr>
                <a:srgbClr val="c0504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Manutenção dos Equipamentos  (empresa </a:t>
            </a:r>
            <a:r>
              <a:rPr b="0" i="1" lang="pt-PT" sz="1600" spc="-1" strike="noStrike">
                <a:solidFill>
                  <a:srgbClr val="000000"/>
                </a:solidFill>
                <a:latin typeface="Times New Roman"/>
              </a:rPr>
              <a:t>Avemat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mpanhas publicitárias (parcialmente);</a:t>
            </a: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buClr>
                <a:srgbClr val="eeece1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lvl="2" marL="1004760" indent="-25560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rocessos de Negó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ulares – Serviço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ulares – Serviço 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presa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3E7-C651-4087-8FB3-040FFE928857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454" name="Group 69"/>
          <p:cNvGrpSpPr/>
          <p:nvPr/>
        </p:nvGrpSpPr>
        <p:grpSpPr>
          <a:xfrm>
            <a:off x="838080" y="1600200"/>
            <a:ext cx="7467840" cy="1143000"/>
            <a:chOff x="838080" y="1600200"/>
            <a:chExt cx="7467840" cy="1143000"/>
          </a:xfrm>
        </p:grpSpPr>
        <p:grpSp>
          <p:nvGrpSpPr>
            <p:cNvPr id="455" name="Group 14"/>
            <p:cNvGrpSpPr/>
            <p:nvPr/>
          </p:nvGrpSpPr>
          <p:grpSpPr>
            <a:xfrm>
              <a:off x="838080" y="1600200"/>
              <a:ext cx="1447920" cy="1143000"/>
              <a:chOff x="838080" y="1600200"/>
              <a:chExt cx="1447920" cy="1143000"/>
            </a:xfrm>
          </p:grpSpPr>
          <p:sp>
            <p:nvSpPr>
              <p:cNvPr id="456" name="AutoShape 13"/>
              <p:cNvSpPr/>
              <p:nvPr/>
            </p:nvSpPr>
            <p:spPr>
              <a:xfrm>
                <a:off x="914400" y="160020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57" name="Text Box 10"/>
              <p:cNvSpPr/>
              <p:nvPr/>
            </p:nvSpPr>
            <p:spPr>
              <a:xfrm>
                <a:off x="838080" y="1905120"/>
                <a:ext cx="12193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Preç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2438280" y="1600200"/>
              <a:ext cx="1447560" cy="1143000"/>
              <a:chOff x="2438280" y="1600200"/>
              <a:chExt cx="1447560" cy="1143000"/>
            </a:xfrm>
          </p:grpSpPr>
          <p:sp>
            <p:nvSpPr>
              <p:cNvPr id="459" name="AutoShape 17"/>
              <p:cNvSpPr/>
              <p:nvPr/>
            </p:nvSpPr>
            <p:spPr>
              <a:xfrm>
                <a:off x="2514240" y="160020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2438280" y="1927080"/>
                <a:ext cx="12189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Simplicidade /Rapidez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61" name="AutoShape 20"/>
            <p:cNvSpPr/>
            <p:nvPr/>
          </p:nvSpPr>
          <p:spPr>
            <a:xfrm>
              <a:off x="5715000" y="160020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5562720" y="1981080"/>
              <a:ext cx="12189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Satisf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3" name="AutoShape 30"/>
            <p:cNvSpPr/>
            <p:nvPr/>
          </p:nvSpPr>
          <p:spPr>
            <a:xfrm>
              <a:off x="4114800" y="160020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4" name="Text Box 31"/>
            <p:cNvSpPr/>
            <p:nvPr/>
          </p:nvSpPr>
          <p:spPr>
            <a:xfrm>
              <a:off x="3962520" y="1905120"/>
              <a:ext cx="121896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Hábito d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1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Uti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5" name="Rectangle 61"/>
            <p:cNvSpPr/>
            <p:nvPr/>
          </p:nvSpPr>
          <p:spPr>
            <a:xfrm>
              <a:off x="7391520" y="1600200"/>
              <a:ext cx="91440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grpSp>
        <p:nvGrpSpPr>
          <p:cNvPr id="466" name="Group 68"/>
          <p:cNvGrpSpPr/>
          <p:nvPr/>
        </p:nvGrpSpPr>
        <p:grpSpPr>
          <a:xfrm>
            <a:off x="762120" y="5029200"/>
            <a:ext cx="6019200" cy="1143000"/>
            <a:chOff x="762120" y="5029200"/>
            <a:chExt cx="6019200" cy="1143000"/>
          </a:xfrm>
        </p:grpSpPr>
        <p:sp>
          <p:nvSpPr>
            <p:cNvPr id="467" name="AutoShape 49"/>
            <p:cNvSpPr/>
            <p:nvPr/>
          </p:nvSpPr>
          <p:spPr>
            <a:xfrm>
              <a:off x="914040" y="5029200"/>
              <a:ext cx="1371240" cy="1143000"/>
            </a:xfrm>
            <a:prstGeom prst="rightArrowCallout">
              <a:avLst>
                <a:gd name="adj1" fmla="val 25002"/>
                <a:gd name="adj2" fmla="val 25000"/>
                <a:gd name="adj3" fmla="val 19995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8" name="Text Box 50"/>
            <p:cNvSpPr/>
            <p:nvPr/>
          </p:nvSpPr>
          <p:spPr>
            <a:xfrm>
              <a:off x="762120" y="5181480"/>
              <a:ext cx="121896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Aquisição Cartei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Cliente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69" name="AutoShape 51"/>
            <p:cNvSpPr/>
            <p:nvPr/>
          </p:nvSpPr>
          <p:spPr>
            <a:xfrm>
              <a:off x="2590560" y="5029200"/>
              <a:ext cx="1371240" cy="1143000"/>
            </a:xfrm>
            <a:prstGeom prst="rightArrowCallout">
              <a:avLst>
                <a:gd name="adj1" fmla="val 25002"/>
                <a:gd name="adj2" fmla="val 25000"/>
                <a:gd name="adj3" fmla="val 19995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70" name="Text Box 52"/>
            <p:cNvSpPr/>
            <p:nvPr/>
          </p:nvSpPr>
          <p:spPr>
            <a:xfrm>
              <a:off x="2514240" y="5356080"/>
              <a:ext cx="12189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Qualidade/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Preç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grpSp>
          <p:nvGrpSpPr>
            <p:cNvPr id="471" name="Group 64"/>
            <p:cNvGrpSpPr/>
            <p:nvPr/>
          </p:nvGrpSpPr>
          <p:grpSpPr>
            <a:xfrm>
              <a:off x="4038480" y="5029200"/>
              <a:ext cx="1523160" cy="1143000"/>
              <a:chOff x="4038480" y="5029200"/>
              <a:chExt cx="1523160" cy="1143000"/>
            </a:xfrm>
          </p:grpSpPr>
          <p:sp>
            <p:nvSpPr>
              <p:cNvPr id="472" name="AutoShape 53"/>
              <p:cNvSpPr/>
              <p:nvPr/>
            </p:nvSpPr>
            <p:spPr>
              <a:xfrm>
                <a:off x="4190400" y="5029200"/>
                <a:ext cx="1371240" cy="1143000"/>
              </a:xfrm>
              <a:prstGeom prst="rightArrowCallout">
                <a:avLst>
                  <a:gd name="adj1" fmla="val 25002"/>
                  <a:gd name="adj2" fmla="val 25000"/>
                  <a:gd name="adj3" fmla="val 19995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73" name="Text Box 54"/>
              <p:cNvSpPr/>
              <p:nvPr/>
            </p:nvSpPr>
            <p:spPr>
              <a:xfrm>
                <a:off x="4038480" y="5410080"/>
                <a:ext cx="12189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Satisfaçã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74" name="Rectangle 62"/>
            <p:cNvSpPr/>
            <p:nvPr/>
          </p:nvSpPr>
          <p:spPr>
            <a:xfrm>
              <a:off x="5867280" y="5029200"/>
              <a:ext cx="91404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grpSp>
        <p:nvGrpSpPr>
          <p:cNvPr id="475" name="Group 66"/>
          <p:cNvGrpSpPr/>
          <p:nvPr/>
        </p:nvGrpSpPr>
        <p:grpSpPr>
          <a:xfrm>
            <a:off x="838080" y="3352680"/>
            <a:ext cx="4191120" cy="1143000"/>
            <a:chOff x="838080" y="3352680"/>
            <a:chExt cx="4191120" cy="1143000"/>
          </a:xfrm>
        </p:grpSpPr>
        <p:grpSp>
          <p:nvGrpSpPr>
            <p:cNvPr id="476" name="Group 34"/>
            <p:cNvGrpSpPr/>
            <p:nvPr/>
          </p:nvGrpSpPr>
          <p:grpSpPr>
            <a:xfrm>
              <a:off x="838080" y="3352680"/>
              <a:ext cx="1447920" cy="1143000"/>
              <a:chOff x="838080" y="3352680"/>
              <a:chExt cx="1447920" cy="1143000"/>
            </a:xfrm>
          </p:grpSpPr>
          <p:sp>
            <p:nvSpPr>
              <p:cNvPr id="477" name="AutoShape 35"/>
              <p:cNvSpPr/>
              <p:nvPr/>
            </p:nvSpPr>
            <p:spPr>
              <a:xfrm>
                <a:off x="914400" y="3352680"/>
                <a:ext cx="1371600" cy="1143000"/>
              </a:xfrm>
              <a:prstGeom prst="rightArrowCallout">
                <a:avLst>
                  <a:gd name="adj1" fmla="val 25002"/>
                  <a:gd name="adj2" fmla="val 25000"/>
                  <a:gd name="adj3" fmla="val 20000"/>
                  <a:gd name="adj4" fmla="val 66667"/>
                </a:avLst>
              </a:prstGeom>
              <a:solidFill>
                <a:srgbClr val="4f81b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  <p:sp>
            <p:nvSpPr>
              <p:cNvPr id="478" name="Text Box 36"/>
              <p:cNvSpPr/>
              <p:nvPr/>
            </p:nvSpPr>
            <p:spPr>
              <a:xfrm>
                <a:off x="838080" y="3657600"/>
                <a:ext cx="121932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Qualidade/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pt-PT" sz="1400" spc="-1" strike="noStrike">
                    <a:solidFill>
                      <a:srgbClr val="000000"/>
                    </a:solidFill>
                    <a:latin typeface="Times New Roman"/>
                  </a:rPr>
                  <a:t>Preço</a:t>
                </a:r>
                <a:endParaRPr b="1" lang="en-US" sz="1400" spc="-1" strike="noStrike">
                  <a:solidFill>
                    <a:srgbClr val="eeece1"/>
                  </a:solidFill>
                  <a:latin typeface="Monotype Corsiva"/>
                </a:endParaRPr>
              </a:p>
            </p:txBody>
          </p:sp>
        </p:grpSp>
        <p:sp>
          <p:nvSpPr>
            <p:cNvPr id="479" name="AutoShape 37"/>
            <p:cNvSpPr/>
            <p:nvPr/>
          </p:nvSpPr>
          <p:spPr>
            <a:xfrm>
              <a:off x="2514600" y="3352680"/>
              <a:ext cx="1371600" cy="1143000"/>
            </a:xfrm>
            <a:prstGeom prst="rightArrowCallout">
              <a:avLst>
                <a:gd name="adj1" fmla="val 25002"/>
                <a:gd name="adj2" fmla="val 25000"/>
                <a:gd name="adj3" fmla="val 20000"/>
                <a:gd name="adj4" fmla="val 66667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80" name="Text Box 38"/>
            <p:cNvSpPr/>
            <p:nvPr/>
          </p:nvSpPr>
          <p:spPr>
            <a:xfrm>
              <a:off x="2286000" y="3679920"/>
              <a:ext cx="1219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Satisf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481" name="Rectangle 63"/>
            <p:cNvSpPr/>
            <p:nvPr/>
          </p:nvSpPr>
          <p:spPr>
            <a:xfrm>
              <a:off x="4114800" y="3352680"/>
              <a:ext cx="914400" cy="114300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Fidelização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Política de Opera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23A-3C04-4A8F-9A59-A08E85138D1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57200" y="1461960"/>
          <a:ext cx="8229600" cy="47865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tério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lano de Serviç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erto 7 dias por semana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self-service: 24 horas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ço personalizado: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ário: Verão – Segunda e Terça: 9:00h –21:00h;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a a Sábado: 9:00h – 22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go: 9:00h – 13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rno – Segunda a Sábado: 9:00h –20:00h;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–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go: 9:00h – 13:00h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peza das instalações no final de cada turno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Localiza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da Nacional nº , junto ao Leclerc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acessos e estacionamento gratuito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Fornecedore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amento e consumíveis: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mat.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trolo de Qualidade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o da qualidade da água e dos equipamentos assegurada pela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mat.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Serviço Pós-venda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ed-back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clientes e empresas;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176"/>
                        </a:spcBef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ários periódicos acerca da satisfação dos consumidores.  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6AC4-E486-4BE9-8E80-8C00E6C063B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2133720"/>
          <a:ext cx="8001000" cy="18288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914400"/>
                <a:gridCol w="1371600"/>
                <a:gridCol w="1523880"/>
                <a:gridCol w="1371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Line 57"/>
          <p:cNvSpPr/>
          <p:nvPr/>
        </p:nvSpPr>
        <p:spPr>
          <a:xfrm>
            <a:off x="1905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89" name="Line 58"/>
          <p:cNvSpPr/>
          <p:nvPr/>
        </p:nvSpPr>
        <p:spPr>
          <a:xfrm>
            <a:off x="30481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0" name="Line 60"/>
          <p:cNvSpPr/>
          <p:nvPr/>
        </p:nvSpPr>
        <p:spPr>
          <a:xfrm>
            <a:off x="54864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1" name="Line 61"/>
          <p:cNvSpPr/>
          <p:nvPr/>
        </p:nvSpPr>
        <p:spPr>
          <a:xfrm>
            <a:off x="70866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2" name="Line 62"/>
          <p:cNvSpPr/>
          <p:nvPr/>
        </p:nvSpPr>
        <p:spPr>
          <a:xfrm>
            <a:off x="70102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3" name="Line 63"/>
          <p:cNvSpPr/>
          <p:nvPr/>
        </p:nvSpPr>
        <p:spPr>
          <a:xfrm>
            <a:off x="69343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4" name="Line 64"/>
          <p:cNvSpPr/>
          <p:nvPr/>
        </p:nvSpPr>
        <p:spPr>
          <a:xfrm>
            <a:off x="72388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5" name="Line 65"/>
          <p:cNvSpPr/>
          <p:nvPr/>
        </p:nvSpPr>
        <p:spPr>
          <a:xfrm>
            <a:off x="716292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6" name="Line 66"/>
          <p:cNvSpPr/>
          <p:nvPr/>
        </p:nvSpPr>
        <p:spPr>
          <a:xfrm>
            <a:off x="426708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7" name="Line 67"/>
          <p:cNvSpPr/>
          <p:nvPr/>
        </p:nvSpPr>
        <p:spPr>
          <a:xfrm>
            <a:off x="685800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8" name="Line 68"/>
          <p:cNvSpPr/>
          <p:nvPr/>
        </p:nvSpPr>
        <p:spPr>
          <a:xfrm>
            <a:off x="6781680" y="21337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499" name="Rectangle 69"/>
          <p:cNvSpPr/>
          <p:nvPr/>
        </p:nvSpPr>
        <p:spPr>
          <a:xfrm>
            <a:off x="160020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0" name="Rectangle 70"/>
          <p:cNvSpPr/>
          <p:nvPr/>
        </p:nvSpPr>
        <p:spPr>
          <a:xfrm>
            <a:off x="3048120" y="2895480"/>
            <a:ext cx="228600" cy="2286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1" name="Rectangle 71"/>
          <p:cNvSpPr/>
          <p:nvPr/>
        </p:nvSpPr>
        <p:spPr>
          <a:xfrm>
            <a:off x="1905120" y="2895480"/>
            <a:ext cx="22860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2" name="Rectangle 72"/>
          <p:cNvSpPr/>
          <p:nvPr/>
        </p:nvSpPr>
        <p:spPr>
          <a:xfrm>
            <a:off x="3048120" y="35812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3" name="Rectangle 73"/>
          <p:cNvSpPr/>
          <p:nvPr/>
        </p:nvSpPr>
        <p:spPr>
          <a:xfrm>
            <a:off x="3048120" y="2133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4" name="Line 86"/>
          <p:cNvSpPr/>
          <p:nvPr/>
        </p:nvSpPr>
        <p:spPr>
          <a:xfrm>
            <a:off x="3808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5" name="Rectangle 95"/>
          <p:cNvSpPr/>
          <p:nvPr/>
        </p:nvSpPr>
        <p:spPr>
          <a:xfrm>
            <a:off x="1905120" y="3581280"/>
            <a:ext cx="2286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6" name="Rectangle 98"/>
          <p:cNvSpPr/>
          <p:nvPr/>
        </p:nvSpPr>
        <p:spPr>
          <a:xfrm>
            <a:off x="990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7" name="Rectangle 102"/>
          <p:cNvSpPr/>
          <p:nvPr/>
        </p:nvSpPr>
        <p:spPr>
          <a:xfrm>
            <a:off x="3581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8" name="Rectangle 113"/>
          <p:cNvSpPr/>
          <p:nvPr/>
        </p:nvSpPr>
        <p:spPr>
          <a:xfrm>
            <a:off x="3276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09" name="Rectangle 114"/>
          <p:cNvSpPr/>
          <p:nvPr/>
        </p:nvSpPr>
        <p:spPr>
          <a:xfrm>
            <a:off x="2133720" y="2133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0" name="Rectangle 129"/>
          <p:cNvSpPr/>
          <p:nvPr/>
        </p:nvSpPr>
        <p:spPr>
          <a:xfrm>
            <a:off x="457200" y="3048120"/>
            <a:ext cx="5335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1" name="Rectangle 130"/>
          <p:cNvSpPr/>
          <p:nvPr/>
        </p:nvSpPr>
        <p:spPr>
          <a:xfrm>
            <a:off x="457200" y="2133720"/>
            <a:ext cx="5335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2" name="Rectangle 147"/>
          <p:cNvSpPr/>
          <p:nvPr/>
        </p:nvSpPr>
        <p:spPr>
          <a:xfrm>
            <a:off x="2438280" y="213372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3" name="Rectangle 151"/>
          <p:cNvSpPr/>
          <p:nvPr/>
        </p:nvSpPr>
        <p:spPr>
          <a:xfrm>
            <a:off x="42670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4" name="Rectangle 152"/>
          <p:cNvSpPr/>
          <p:nvPr/>
        </p:nvSpPr>
        <p:spPr>
          <a:xfrm>
            <a:off x="6705720" y="3733920"/>
            <a:ext cx="7596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5" name="Rectangle 153"/>
          <p:cNvSpPr/>
          <p:nvPr/>
        </p:nvSpPr>
        <p:spPr>
          <a:xfrm>
            <a:off x="7238880" y="3733920"/>
            <a:ext cx="7632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6" name="Rectangle 157"/>
          <p:cNvSpPr/>
          <p:nvPr/>
        </p:nvSpPr>
        <p:spPr>
          <a:xfrm>
            <a:off x="42670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7" name="Rectangle 158"/>
          <p:cNvSpPr/>
          <p:nvPr/>
        </p:nvSpPr>
        <p:spPr>
          <a:xfrm>
            <a:off x="6705720" y="2666880"/>
            <a:ext cx="7596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8" name="Rectangle 159"/>
          <p:cNvSpPr/>
          <p:nvPr/>
        </p:nvSpPr>
        <p:spPr>
          <a:xfrm>
            <a:off x="7238880" y="2666880"/>
            <a:ext cx="76320" cy="381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19" name="AutoShape 170"/>
          <p:cNvSpPr/>
          <p:nvPr/>
        </p:nvSpPr>
        <p:spPr>
          <a:xfrm rot="16200000">
            <a:off x="1066680" y="114264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52560 h 1523880"/>
              <a:gd name="textAreaBottom" fmla="*/ 147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5"/>
                  <a:pt x="10800" y="2390"/>
                </a:cubicBezTo>
                <a:lnTo>
                  <a:pt x="10800" y="8222"/>
                </a:lnTo>
                <a:cubicBezTo>
                  <a:pt x="10800" y="9417"/>
                  <a:pt x="16200" y="10612"/>
                  <a:pt x="21600" y="10612"/>
                </a:cubicBezTo>
                <a:cubicBezTo>
                  <a:pt x="16200" y="10612"/>
                  <a:pt x="10800" y="11807"/>
                  <a:pt x="10800" y="13002"/>
                </a:cubicBezTo>
                <a:lnTo>
                  <a:pt x="10800" y="19210"/>
                </a:lnTo>
                <a:cubicBezTo>
                  <a:pt x="10800" y="20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0" name="Text Box 171"/>
          <p:cNvSpPr/>
          <p:nvPr/>
        </p:nvSpPr>
        <p:spPr>
          <a:xfrm>
            <a:off x="457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Área de serviço personalizad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21" name="Group 183"/>
          <p:cNvGrpSpPr/>
          <p:nvPr/>
        </p:nvGrpSpPr>
        <p:grpSpPr>
          <a:xfrm>
            <a:off x="2057400" y="1219320"/>
            <a:ext cx="6400800" cy="837720"/>
            <a:chOff x="2057400" y="1219320"/>
            <a:chExt cx="6400800" cy="837720"/>
          </a:xfrm>
        </p:grpSpPr>
        <p:sp>
          <p:nvSpPr>
            <p:cNvPr id="522" name="AutoShape 81"/>
            <p:cNvSpPr/>
            <p:nvPr/>
          </p:nvSpPr>
          <p:spPr>
            <a:xfrm rot="16200000">
              <a:off x="6210000" y="-190800"/>
              <a:ext cx="304920" cy="4191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45080 h 4191120"/>
                <a:gd name="textAreaBottom" fmla="*/ 4046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3" name="AutoShape 82"/>
            <p:cNvSpPr/>
            <p:nvPr/>
          </p:nvSpPr>
          <p:spPr>
            <a:xfrm rot="16200000">
              <a:off x="2971800" y="837720"/>
              <a:ext cx="304920" cy="2133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800 h 2133720"/>
                <a:gd name="textAreaBottom" fmla="*/ 2059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5"/>
                    <a:pt x="10800" y="2390"/>
                  </a:cubicBezTo>
                  <a:lnTo>
                    <a:pt x="10800" y="8222"/>
                  </a:lnTo>
                  <a:cubicBezTo>
                    <a:pt x="10800" y="9417"/>
                    <a:pt x="16200" y="10612"/>
                    <a:pt x="21600" y="10612"/>
                  </a:cubicBezTo>
                  <a:cubicBezTo>
                    <a:pt x="16200" y="10612"/>
                    <a:pt x="10800" y="11807"/>
                    <a:pt x="10800" y="13002"/>
                  </a:cubicBezTo>
                  <a:lnTo>
                    <a:pt x="10800" y="19210"/>
                  </a:lnTo>
                  <a:cubicBezTo>
                    <a:pt x="10800" y="2040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4" name="Text Box 172"/>
            <p:cNvSpPr/>
            <p:nvPr/>
          </p:nvSpPr>
          <p:spPr>
            <a:xfrm>
              <a:off x="2362320" y="121932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serviço self-service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25" name="Text Box 173"/>
            <p:cNvSpPr/>
            <p:nvPr/>
          </p:nvSpPr>
          <p:spPr>
            <a:xfrm>
              <a:off x="4800600" y="137160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Área de espera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26" name="Text Box 175"/>
          <p:cNvSpPr/>
          <p:nvPr/>
        </p:nvSpPr>
        <p:spPr>
          <a:xfrm rot="16200000">
            <a:off x="-121680" y="289188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5,3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7" name="Line 179"/>
          <p:cNvSpPr/>
          <p:nvPr/>
        </p:nvSpPr>
        <p:spPr>
          <a:xfrm>
            <a:off x="861048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528" name="Text Box 181"/>
          <p:cNvSpPr/>
          <p:nvPr/>
        </p:nvSpPr>
        <p:spPr>
          <a:xfrm rot="16200000">
            <a:off x="8460000" y="3123720"/>
            <a:ext cx="7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7,00m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29" name="Group 184"/>
          <p:cNvGrpSpPr/>
          <p:nvPr/>
        </p:nvGrpSpPr>
        <p:grpSpPr>
          <a:xfrm>
            <a:off x="228600" y="4038480"/>
            <a:ext cx="8229600" cy="764280"/>
            <a:chOff x="228600" y="4038480"/>
            <a:chExt cx="8229600" cy="764280"/>
          </a:xfrm>
        </p:grpSpPr>
        <p:sp>
          <p:nvSpPr>
            <p:cNvPr id="530" name="Line 83"/>
            <p:cNvSpPr/>
            <p:nvPr/>
          </p:nvSpPr>
          <p:spPr>
            <a:xfrm>
              <a:off x="4191120" y="4038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1" name="Line 84"/>
            <p:cNvSpPr/>
            <p:nvPr/>
          </p:nvSpPr>
          <p:spPr>
            <a:xfrm>
              <a:off x="457200" y="441972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2" name="Line 85"/>
            <p:cNvSpPr/>
            <p:nvPr/>
          </p:nvSpPr>
          <p:spPr>
            <a:xfrm>
              <a:off x="9907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3" name="Text Box 176"/>
            <p:cNvSpPr/>
            <p:nvPr/>
          </p:nvSpPr>
          <p:spPr>
            <a:xfrm>
              <a:off x="586728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6,63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4" name="Text Box 177"/>
            <p:cNvSpPr/>
            <p:nvPr/>
          </p:nvSpPr>
          <p:spPr>
            <a:xfrm>
              <a:off x="213372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14,29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5" name="Line 178"/>
            <p:cNvSpPr/>
            <p:nvPr/>
          </p:nvSpPr>
          <p:spPr>
            <a:xfrm>
              <a:off x="3808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6" name="Text Box 180"/>
            <p:cNvSpPr/>
            <p:nvPr/>
          </p:nvSpPr>
          <p:spPr>
            <a:xfrm>
              <a:off x="228600" y="40384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2,08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37" name="Text Box 182"/>
            <p:cNvSpPr/>
            <p:nvPr/>
          </p:nvSpPr>
          <p:spPr>
            <a:xfrm>
              <a:off x="4038480" y="4495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Times New Roman"/>
                </a:rPr>
                <a:t>33,00 m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  <p:sp>
        <p:nvSpPr>
          <p:cNvPr id="538" name="Rectangle 185"/>
          <p:cNvSpPr/>
          <p:nvPr/>
        </p:nvSpPr>
        <p:spPr>
          <a:xfrm>
            <a:off x="990720" y="2133720"/>
            <a:ext cx="609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eece1"/>
              </a:solidFill>
              <a:latin typeface="Monotype Corsiva"/>
            </a:endParaRPr>
          </a:p>
        </p:txBody>
      </p:sp>
      <p:grpSp>
        <p:nvGrpSpPr>
          <p:cNvPr id="539" name="Group 190"/>
          <p:cNvGrpSpPr/>
          <p:nvPr/>
        </p:nvGrpSpPr>
        <p:grpSpPr>
          <a:xfrm>
            <a:off x="380880" y="5105520"/>
            <a:ext cx="8620200" cy="1068840"/>
            <a:chOff x="380880" y="5105520"/>
            <a:chExt cx="8620200" cy="1068840"/>
          </a:xfrm>
        </p:grpSpPr>
        <p:sp>
          <p:nvSpPr>
            <p:cNvPr id="540" name="Rectangle 90"/>
            <p:cNvSpPr/>
            <p:nvPr/>
          </p:nvSpPr>
          <p:spPr>
            <a:xfrm>
              <a:off x="380880" y="5181480"/>
              <a:ext cx="260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1" name="Rectangle 91"/>
            <p:cNvSpPr/>
            <p:nvPr/>
          </p:nvSpPr>
          <p:spPr>
            <a:xfrm>
              <a:off x="380880" y="5562720"/>
              <a:ext cx="260640" cy="228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2" name="Rectangle 92"/>
            <p:cNvSpPr/>
            <p:nvPr/>
          </p:nvSpPr>
          <p:spPr>
            <a:xfrm>
              <a:off x="380880" y="5943600"/>
              <a:ext cx="260640" cy="2286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3" name="Rectangle 93"/>
            <p:cNvSpPr/>
            <p:nvPr/>
          </p:nvSpPr>
          <p:spPr>
            <a:xfrm>
              <a:off x="2719440" y="5181480"/>
              <a:ext cx="26028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4" name="Rectangle 94"/>
            <p:cNvSpPr/>
            <p:nvPr/>
          </p:nvSpPr>
          <p:spPr>
            <a:xfrm>
              <a:off x="2719440" y="5562720"/>
              <a:ext cx="260280" cy="2286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5" name="Rectangle 96"/>
            <p:cNvSpPr/>
            <p:nvPr/>
          </p:nvSpPr>
          <p:spPr>
            <a:xfrm>
              <a:off x="2719440" y="5943600"/>
              <a:ext cx="2602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6" name="Rectangle 148"/>
            <p:cNvSpPr/>
            <p:nvPr/>
          </p:nvSpPr>
          <p:spPr>
            <a:xfrm>
              <a:off x="4886280" y="5181480"/>
              <a:ext cx="2588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7" name="Rectangle 149"/>
            <p:cNvSpPr/>
            <p:nvPr/>
          </p:nvSpPr>
          <p:spPr>
            <a:xfrm>
              <a:off x="4886280" y="5562720"/>
              <a:ext cx="2588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8" name="Rectangle 150"/>
            <p:cNvSpPr/>
            <p:nvPr/>
          </p:nvSpPr>
          <p:spPr>
            <a:xfrm>
              <a:off x="4886280" y="5943600"/>
              <a:ext cx="258840" cy="2286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49" name="Text Box 160"/>
            <p:cNvSpPr/>
            <p:nvPr/>
          </p:nvSpPr>
          <p:spPr>
            <a:xfrm>
              <a:off x="727200" y="510552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X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0" name="Text Box 161"/>
            <p:cNvSpPr/>
            <p:nvPr/>
          </p:nvSpPr>
          <p:spPr>
            <a:xfrm>
              <a:off x="4929120" y="585792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H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1" name="Text Box 162"/>
            <p:cNvSpPr/>
            <p:nvPr/>
          </p:nvSpPr>
          <p:spPr>
            <a:xfrm>
              <a:off x="5145120" y="5486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G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2" name="Text Box 163"/>
            <p:cNvSpPr/>
            <p:nvPr/>
          </p:nvSpPr>
          <p:spPr>
            <a:xfrm>
              <a:off x="5145120" y="5105520"/>
              <a:ext cx="142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F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3" name="Text Box 164"/>
            <p:cNvSpPr/>
            <p:nvPr/>
          </p:nvSpPr>
          <p:spPr>
            <a:xfrm>
              <a:off x="2979720" y="548640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T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4" name="Text Box 165"/>
            <p:cNvSpPr/>
            <p:nvPr/>
          </p:nvSpPr>
          <p:spPr>
            <a:xfrm>
              <a:off x="2979720" y="5867280"/>
              <a:ext cx="181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U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5" name="Text Box 166"/>
            <p:cNvSpPr/>
            <p:nvPr/>
          </p:nvSpPr>
          <p:spPr>
            <a:xfrm>
              <a:off x="3071880" y="5143680"/>
              <a:ext cx="15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S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6" name="Text Box 167"/>
            <p:cNvSpPr/>
            <p:nvPr/>
          </p:nvSpPr>
          <p:spPr>
            <a:xfrm>
              <a:off x="642960" y="5500800"/>
              <a:ext cx="181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Y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7" name="Text Box 168"/>
            <p:cNvSpPr/>
            <p:nvPr/>
          </p:nvSpPr>
          <p:spPr>
            <a:xfrm>
              <a:off x="727200" y="5867280"/>
              <a:ext cx="156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Z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8" name="Text Box 169"/>
            <p:cNvSpPr/>
            <p:nvPr/>
          </p:nvSpPr>
          <p:spPr>
            <a:xfrm>
              <a:off x="7397640" y="5105520"/>
              <a:ext cx="153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K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59" name="Rectangle 187"/>
            <p:cNvSpPr/>
            <p:nvPr/>
          </p:nvSpPr>
          <p:spPr>
            <a:xfrm>
              <a:off x="7209000" y="5181480"/>
              <a:ext cx="25848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60" name="Text Box 188"/>
            <p:cNvSpPr/>
            <p:nvPr/>
          </p:nvSpPr>
          <p:spPr>
            <a:xfrm>
              <a:off x="7397640" y="5486400"/>
              <a:ext cx="16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Equipamento L</a:t>
              </a:r>
              <a:endParaRPr b="1" lang="en-US" sz="14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  <p:sp>
          <p:nvSpPr>
            <p:cNvPr id="561" name="Rectangle 189"/>
            <p:cNvSpPr/>
            <p:nvPr/>
          </p:nvSpPr>
          <p:spPr>
            <a:xfrm>
              <a:off x="7209000" y="5562720"/>
              <a:ext cx="2584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eeece1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Apresentação do Projecto/ </a:t>
            </a:r>
            <a:br>
              <a:rPr sz="5400"/>
            </a:br>
            <a:r>
              <a:rPr b="1" i="1" lang="pt-PT" sz="5400" spc="-1" strike="noStrike">
                <a:solidFill>
                  <a:srgbClr val="000066"/>
                </a:solidFill>
                <a:latin typeface="Times New Roman"/>
              </a:rPr>
              <a:t>do Negócio</a:t>
            </a:r>
            <a:br>
              <a:rPr sz="5400"/>
            </a:br>
            <a:r>
              <a:rPr b="1" i="1" lang="pt-PT" sz="3600" spc="-1" strike="noStrike">
                <a:solidFill>
                  <a:srgbClr val="000066"/>
                </a:solidFill>
                <a:latin typeface="Times New Roman"/>
              </a:rPr>
              <a:t>Projecções Financei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ECA-1251-4E24-8FE5-4EB54ED0A47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ssupostos 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úmero de dias de funcionamento: 363 di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RC: taxa de 15% (por ser região do interio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pagamento: 60 dias; 30 dias da Água, Electricidade e outr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azo médio de recebimento: 0 dias – serviço pago a pronto pag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Remuneração do Pesso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22480" indent="-273240" algn="just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89,12% Custo Fix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pt-PT" sz="1500" spc="-1" strike="noStrike">
                <a:solidFill>
                  <a:srgbClr val="000000"/>
                </a:solidFill>
                <a:latin typeface="Times New Roman"/>
              </a:rPr>
              <a:t>10,88% Custo Variável: resultante de incentivos dados aos 2 funcionários por uma boa avaliação do seu desempenho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axa de Inflação: 3,0% – baseada na previsão para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643-319E-4588-ABA1-8231F3EB8D72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Investimentos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431-8B6F-4268-BE3E-75DDE8B4CBD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785880" y="1000080"/>
          <a:ext cx="7848360" cy="4956120"/>
        </p:xfrm>
        <a:graphic>
          <a:graphicData uri="http://schemas.openxmlformats.org/drawingml/2006/table">
            <a:tbl>
              <a:tblPr/>
              <a:tblGrid>
                <a:gridCol w="1981080"/>
                <a:gridCol w="3276720"/>
                <a:gridCol w="25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vestimentos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nfra-estrutur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quipamentos Básic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sum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tos para um ano (média)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quipamento Administrativ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Outros Equipament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Despesas de Constituição e Licença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enças de funcionamento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vará de Construção;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sas Jurídicas.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 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arketing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 Comunicação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2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buClr>
                          <a:srgbClr val="eeece1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Previsão de Custos de Exploraçã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A56-55A1-45F1-9979-DBF6716F8CC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28600" y="1295280"/>
          <a:ext cx="8458200" cy="4930920"/>
        </p:xfrm>
        <a:graphic>
          <a:graphicData uri="http://schemas.openxmlformats.org/drawingml/2006/table">
            <a:tbl>
              <a:tblPr/>
              <a:tblGrid>
                <a:gridCol w="1905120"/>
                <a:gridCol w="1371600"/>
                <a:gridCol w="990360"/>
                <a:gridCol w="990720"/>
                <a:gridCol w="1066680"/>
                <a:gridCol w="1067040"/>
                <a:gridCol w="106668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ção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 meses)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Consum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Electricidade, Água e Combustívei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 em relação à procura prevista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Publicidade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s Publicitár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Material de Escritór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has, Papel Fotografia, etc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Honorár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Arrendamento do Espaç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da e distribuição de 2,5% lucr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Fontes de Financiam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Própr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Sócios iguais: € = 2 x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Capitais Alhei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mpréstimo bancário: €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Reembolsável no prazo de x ano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restação mensal de  €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ubsídi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Fundo Perdi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ILE`s: Iniciativas Locais de Empreg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2058-8B6E-4A6A-A2AD-09712179B12A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04920" y="5106960"/>
          <a:ext cx="8534160" cy="11444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ama de Apoi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lume de Financiament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 Pretendido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os Apoios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1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ILE´s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imento até 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eeece1"/>
                          </a:solidFill>
                          <a:latin typeface="Times New Roman"/>
                        </a:rPr>
                        <a:t>€</a:t>
                      </a:r>
                      <a:endParaRPr b="1" lang="en-US" sz="18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€</a:t>
                      </a:r>
                      <a:endParaRPr b="1" lang="en-US" sz="14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eeece1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Demonstração de Resultados Previs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12952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Demonstração de Resultados da </a:t>
            </a: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XPTO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transmite-nos nesta fase uma primeira noção sobre a sua viabilidade. Este facto verifica-se, dado que os resultados líquidos dos 5 primeiros anos são posi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99B-0270-4BEB-8617-201C34BDA439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80" name="Object 6"/>
          <p:cNvGraphicFramePr/>
          <p:nvPr/>
        </p:nvGraphicFramePr>
        <p:xfrm>
          <a:off x="609480" y="2819520"/>
          <a:ext cx="7848720" cy="30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84872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ext Box 7"/>
          <p:cNvSpPr/>
          <p:nvPr/>
        </p:nvSpPr>
        <p:spPr>
          <a:xfrm>
            <a:off x="609480" y="5867280"/>
            <a:ext cx="762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 Em 2005 o Resultado Liquido é positivo, se contarmos somente 8 meses de remuneração no 1º ano, RL = 2.640 €).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599840"/>
            <a:ext cx="84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om o objectivo de conhecer o potencial de mercado para o nosso projecto realizámos um conjunto de inquéritos na cidade de Chaves e arredores. Destacam-se as seguintes conclusõ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2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2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Há um mercado potencial bastante significativo para os serviços que a empresa pretende presta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2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uitos potenciais clientes realizam o serviço de (…) em casa; têm, porém, cada vez menos tempo para o efectuar, pelo que há condições para que recorram, com maior frequência, ao serviço de (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B16-545B-4DD4-8A78-5E19FBAF403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Cash-Flow Prevision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cash-flow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previsional ou a capacidade da empresa se auto-financiar é negativo apenas no 1.º ano devido aos investimentos iniciais realiz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C4F-B6DE-488E-9FAD-DF62A5CFEC6B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86" name="Object 4"/>
          <p:cNvGraphicFramePr/>
          <p:nvPr/>
        </p:nvGraphicFramePr>
        <p:xfrm>
          <a:off x="533520" y="2743200"/>
          <a:ext cx="8001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ay-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prazo de recuperação do investimento é de z 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VAL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Valor Actualizado Líqu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 da </a:t>
            </a:r>
            <a:r>
              <a:rPr b="1" i="1" lang="pt-PT" sz="1600" spc="-1" strike="noStrike">
                <a:solidFill>
                  <a:srgbClr val="000000"/>
                </a:solidFill>
                <a:latin typeface="Monotype Corsiva"/>
              </a:rPr>
              <a:t>XPTO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presenta-se positivo, com o valor de €. Assim, este negócio permite recuperar o investimento efectuado, tal como cobrir todas as suas obrigações, gerando ainda um excedente claramente positiv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 algn="just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TIR –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Taxa Interna de Rentabil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Valor da TIR é de %, superior às remunerações alternativas de capital exist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680B-590C-4EC3-8D97-3A6F7F567FC5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Ponto Crí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No gráfico estão representados os valores para os quais a empresa atingirá o ponto crítico nas vendas. Assim, o 1.º ano é aquele que apresenta um ponto crítico mais elevado, resultante do investimento inicial efectuado.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A6A-D00F-48E4-92D3-99BA9BD87B3E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609480" y="2971800"/>
          <a:ext cx="77724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71800"/>
                    <a:ext cx="7772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6"/>
          <p:cNvSpPr/>
          <p:nvPr/>
        </p:nvSpPr>
        <p:spPr>
          <a:xfrm>
            <a:off x="609480" y="608004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** Ano cruzeiro</a:t>
            </a:r>
            <a:endParaRPr b="1" lang="en-US" sz="1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900" spc="-1" strike="noStrike">
                <a:solidFill>
                  <a:srgbClr val="000000"/>
                </a:solidFill>
                <a:latin typeface="Times New Roman"/>
              </a:rPr>
              <a:t>Indicadores do Projec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765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51"/>
              </a:spcBef>
              <a:spcAft>
                <a:spcPts val="10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imes New Roman"/>
              </a:rPr>
              <a:t>Análise de Sensibilidade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200000"/>
              </a:lnSpc>
              <a:spcBef>
                <a:spcPts val="675"/>
              </a:spcBef>
              <a:spcAft>
                <a:spcPts val="901"/>
              </a:spcAft>
              <a:buClr>
                <a:srgbClr val="eeece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azendo uma diminuição de 20% dos proveitos, a TIR desce para 45,8%. Este factor não tem grandes implicações, já que a TIR ainda se mantém elevad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200000"/>
              </a:lnSpc>
              <a:spcBef>
                <a:spcPts val="675"/>
              </a:spcBef>
              <a:spcAft>
                <a:spcPts val="901"/>
              </a:spcAft>
              <a:buClr>
                <a:srgbClr val="eeece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mo curiosidade, fazendo uma análise de sensibilidade de menos 50%, a TIR ainda se mantém positiva, assumindo um valor de 16,2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5000"/>
              </a:lnSpc>
              <a:spcBef>
                <a:spcPts val="67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B73B-AD45-4D9C-8411-E05D641AA3D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600" spc="-1" strike="noStrike">
                <a:solidFill>
                  <a:srgbClr val="000000"/>
                </a:solidFill>
                <a:latin typeface="Monotype Corsiva"/>
              </a:rPr>
              <a:t>ANEXO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F9D-3323-4CDF-8F4D-9DF9D244FFEC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F99-1468-4DFE-B42C-913E872A96E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S 1 – Curriculum Vitae dos Promotore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C7C-A076-406C-9BEE-E3981328D08D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2 – Questionário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962-40E7-4701-BCF6-A70BDF4168A6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3 – Documentação técnic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Layout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Fotos das Instalações e Produ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633-AE38-496A-8310-7A0C59CF1030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428760" y="3000240"/>
            <a:ext cx="8229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4 – Mapas previsionais</a:t>
            </a:r>
            <a:endParaRPr b="1" lang="en-US" sz="40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Custos e Investimentos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Mapa de Origem e Aplicação de Fundos e Balanç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Demonstração de resultados e Cash-flow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473-E362-458E-9FA7-E80D0519CE81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5 – Meios de Financiamento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Empréstimo Bancário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Subsídio 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Times New Roman"/>
              </a:rPr>
              <a:t>Estudo sobre o Potencial do Merc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08DE-D999-4EDB-8A97-B8E7428FE0F4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graphicFrame>
        <p:nvGraphicFramePr>
          <p:cNvPr id="174" name="Object 1028"/>
          <p:cNvGraphicFramePr/>
          <p:nvPr/>
        </p:nvGraphicFramePr>
        <p:xfrm>
          <a:off x="4648320" y="3962520"/>
          <a:ext cx="396216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62520"/>
                    <a:ext cx="3962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9"/>
          <p:cNvGraphicFramePr/>
          <p:nvPr/>
        </p:nvGraphicFramePr>
        <p:xfrm>
          <a:off x="457200" y="3962520"/>
          <a:ext cx="3949560" cy="240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962520"/>
                    <a:ext cx="39495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30"/>
          <p:cNvGraphicFramePr/>
          <p:nvPr/>
        </p:nvGraphicFramePr>
        <p:xfrm>
          <a:off x="4648320" y="1434960"/>
          <a:ext cx="3949560" cy="2400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434960"/>
                    <a:ext cx="3949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31"/>
          <p:cNvGraphicFramePr/>
          <p:nvPr/>
        </p:nvGraphicFramePr>
        <p:xfrm>
          <a:off x="457200" y="1420920"/>
          <a:ext cx="3962520" cy="2313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1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1420920"/>
                    <a:ext cx="3962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033"/>
          <p:cNvSpPr/>
          <p:nvPr/>
        </p:nvSpPr>
        <p:spPr>
          <a:xfrm>
            <a:off x="533520" y="1143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Periodicidade da utilização do serviço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3" name="Text Box 1034"/>
          <p:cNvSpPr/>
          <p:nvPr/>
        </p:nvSpPr>
        <p:spPr>
          <a:xfrm>
            <a:off x="4724280" y="1143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Onde costuma realizar o serviço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4" name="Text Box 1035"/>
          <p:cNvSpPr/>
          <p:nvPr/>
        </p:nvSpPr>
        <p:spPr>
          <a:xfrm>
            <a:off x="4648320" y="3733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Estaria interessado num serviço de (…)? 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185" name="Text Box 1036"/>
          <p:cNvSpPr/>
          <p:nvPr/>
        </p:nvSpPr>
        <p:spPr>
          <a:xfrm>
            <a:off x="457200" y="3733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Qual a modalidade que mais utiliza?</a:t>
            </a:r>
            <a:endParaRPr b="1" lang="en-US" sz="14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96DC-E40D-41CC-8B8C-E1D4CB493ADF}" type="slidenum">
              <a:rPr b="1" lang="pt-PT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eeece1"/>
              </a:solidFill>
              <a:latin typeface="Monotype Corsiv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57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Monotype Corsiva"/>
              </a:rPr>
              <a:t>ANEXO 6 – Documentação legal e jurídica</a:t>
            </a:r>
            <a:br>
              <a:rPr sz="40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Passos para a Constituição da Empresa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Monotype Corsiva"/>
              </a:rPr>
              <a:t> Estatutos da XPTO</a:t>
            </a:r>
            <a:endParaRPr b="1" lang="en-US" sz="1800" spc="-1" strike="noStrike">
              <a:solidFill>
                <a:srgbClr val="eeece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27Z</dcterms:created>
  <dc:creator>Ricardo Gonçalves</dc:creator>
  <dc:description/>
  <dc:language>en-US</dc:language>
  <cp:lastModifiedBy>Operador</cp:lastModifiedBy>
  <dcterms:modified xsi:type="dcterms:W3CDTF">2008-05-12T23:41:21Z</dcterms:modified>
  <cp:revision>250</cp:revision>
  <dc:subject/>
  <dc:title>Diapositivo 1</dc:title>
</cp:coreProperties>
</file>